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13.png" ContentType="image/png"/>
  <Override PartName="/ppt/media/image9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8959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89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93760" y="68544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14400" y="4266720"/>
            <a:ext cx="50292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3"/>
          </p:nvPr>
        </p:nvSpPr>
        <p:spPr>
          <a:xfrm>
            <a:off x="-360" y="8534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4"/>
          </p:nvPr>
        </p:nvSpPr>
        <p:spPr>
          <a:xfrm>
            <a:off x="3885840" y="8534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68311-24C6-441F-A79B-70C851473790}" type="slidenum">
              <a:rPr b="1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95560" y="687240"/>
            <a:ext cx="4468680" cy="335124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379440" y="4268880"/>
            <a:ext cx="6099120" cy="40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920" rIns="88920" tIns="44280" bIns="44280"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379440" y="4268880"/>
            <a:ext cx="6099120" cy="44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6760" rIns="8676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: add notes: would discount on line charges as beachead and make money on fea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7653E-09E9-4896-B94D-7DBAE2D594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31880" y="358812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C3EB9-CCA2-40AA-A4E7-C51C200DCD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892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EE4EE-6B3E-4C1B-BC07-02016EB62F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3648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072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73188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3648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072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663B0-D740-4A16-8DAE-826AC77329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73160" y="181080"/>
            <a:ext cx="8781840" cy="16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6E288-671E-412D-8D39-C44EB92F19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892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731880" y="358812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892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3648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072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73188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3648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072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E3588-00AC-4D18-95CC-CE017E9A03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64C21-DD5A-4A96-8FF1-D847A082DF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5BEBE-B587-41EA-A1B0-F113BE171B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73160" y="181080"/>
            <a:ext cx="8781840" cy="16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5A007-8CA3-4C59-BD7A-FCE2D0F7F5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F8FBB-2143-45E8-8FB4-DC2B5947A4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892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8A2AE-20A2-4ED2-8E0E-17A19B706D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54D66-A601-4540-A949-2FFADACC11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58800" y="6097680"/>
            <a:ext cx="8294760" cy="601560"/>
          </a:xfrm>
          <a:prstGeom prst="rect">
            <a:avLst/>
          </a:prstGeom>
          <a:solidFill>
            <a:srgbClr val="ccc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3160" y="181080"/>
            <a:ext cx="878184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7360" indent="-117360">
              <a:spcBef>
                <a:spcPts val="1125"/>
              </a:spcBef>
              <a:buClr>
                <a:srgbClr val="003399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969840" indent="-171360">
              <a:spcBef>
                <a:spcPts val="1125"/>
              </a:spcBef>
              <a:buClr>
                <a:srgbClr val="00339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3" marL="1316160" indent="-173160">
              <a:spcBef>
                <a:spcPts val="1125"/>
              </a:spcBef>
              <a:buClr>
                <a:srgbClr val="00339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4" marL="1660680" indent="-173160">
              <a:spcBef>
                <a:spcPts val="1125"/>
              </a:spcBef>
              <a:buClr>
                <a:srgbClr val="003399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5" marL="1660680" indent="-173160">
              <a:spcBef>
                <a:spcPts val="1125"/>
              </a:spcBef>
              <a:buClr>
                <a:srgbClr val="000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6" marL="1660680" indent="-173160">
              <a:spcBef>
                <a:spcPts val="1125"/>
              </a:spcBef>
              <a:buClr>
                <a:srgbClr val="000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207280" y="6389280"/>
            <a:ext cx="75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10F45-E390-462F-9CAE-30DA61B5A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79280" y="6097680"/>
            <a:ext cx="498600" cy="60012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81080" y="460440"/>
            <a:ext cx="8766000" cy="0"/>
          </a:xfrm>
          <a:prstGeom prst="line">
            <a:avLst/>
          </a:prstGeom>
          <a:ln w="6480">
            <a:solidFill>
              <a:srgbClr val="4f7f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202440" y="652320"/>
            <a:ext cx="2125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74600" y="184320"/>
            <a:ext cx="8778960" cy="651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82520" y="730080"/>
            <a:ext cx="8766360" cy="0"/>
          </a:xfrm>
          <a:prstGeom prst="line">
            <a:avLst/>
          </a:prstGeom>
          <a:ln w="6480">
            <a:solidFill>
              <a:srgbClr val="4f7f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SOMAstackedWHITEonBLACK" descr=""/>
          <p:cNvPicPr/>
          <p:nvPr/>
        </p:nvPicPr>
        <p:blipFill>
          <a:blip r:embed="rId2"/>
          <a:stretch/>
        </p:blipFill>
        <p:spPr>
          <a:xfrm>
            <a:off x="239760" y="6127920"/>
            <a:ext cx="336600" cy="55224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7888320" y="6097680"/>
            <a:ext cx="0" cy="6015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7887960" y="6373800"/>
            <a:ext cx="10652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7889400" y="6097680"/>
            <a:ext cx="10652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73120" y="3236760"/>
            <a:ext cx="7670880" cy="281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73120" y="2003400"/>
            <a:ext cx="7670880" cy="1301760"/>
          </a:xfrm>
          <a:prstGeom prst="rect">
            <a:avLst/>
          </a:prstGeom>
          <a:solidFill>
            <a:srgbClr val="637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73120" y="6118200"/>
            <a:ext cx="7670880" cy="739800"/>
          </a:xfrm>
          <a:prstGeom prst="rect">
            <a:avLst/>
          </a:prstGeom>
          <a:solidFill>
            <a:srgbClr val="b7b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52560" y="6338160"/>
            <a:ext cx="459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 Francisco  •   Toronto  •   Dallas  •   Ottaw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3500000">
            <a:off x="1290240" y="3750480"/>
            <a:ext cx="252360" cy="25236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96880" y="2139480"/>
            <a:ext cx="764712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SOMAstackedBLUE" descr=""/>
          <p:cNvPicPr/>
          <p:nvPr/>
        </p:nvPicPr>
        <p:blipFill>
          <a:blip r:embed="rId2"/>
          <a:stretch/>
        </p:blipFill>
        <p:spPr>
          <a:xfrm>
            <a:off x="247680" y="225360"/>
            <a:ext cx="974520" cy="15969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500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9160" indent="341280" algn="ctr">
              <a:spcBef>
                <a:spcPts val="1001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9840" indent="-171360" algn="ctr">
              <a:spcBef>
                <a:spcPts val="876"/>
              </a:spcBef>
              <a:buClr>
                <a:srgbClr val="003399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16160" indent="-173160" algn="ctr">
              <a:spcBef>
                <a:spcPts val="876"/>
              </a:spcBef>
              <a:buClr>
                <a:srgbClr val="003399"/>
              </a:buClr>
              <a:buSzPct val="85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468360" indent="1019160" algn="ctr">
              <a:spcBef>
                <a:spcPts val="751"/>
              </a:spcBef>
              <a:buClr>
                <a:srgbClr val="003399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468360" indent="1019160">
              <a:spcBef>
                <a:spcPts val="300"/>
              </a:spcBef>
              <a:buClr>
                <a:srgbClr val="000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468360" indent="1019160">
              <a:spcBef>
                <a:spcPts val="300"/>
              </a:spcBef>
              <a:buClr>
                <a:srgbClr val="000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15680" y="2120400"/>
            <a:ext cx="774396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ice QoS in IP-Centric BWA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846440" y="3660840"/>
            <a:ext cx="703080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500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gineering Toll-quality voice into IP BW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chael Stum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MA Network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ebruary 14, 200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2114280" y="1028880"/>
            <a:ext cx="8165880" cy="4983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acket headers too expensive for voice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Heavy duty header compression for voice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oice: down to 2 bit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k layer QoS issues (cont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47760" y="1015560"/>
            <a:ext cx="1712880" cy="43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Key 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2264760" y="1911240"/>
            <a:ext cx="6531120" cy="2270880"/>
            <a:chOff x="2264760" y="1911240"/>
            <a:chExt cx="6531120" cy="2270880"/>
          </a:xfrm>
        </p:grpSpPr>
        <p:sp>
          <p:nvSpPr>
            <p:cNvPr id="462" name=""/>
            <p:cNvSpPr/>
            <p:nvPr/>
          </p:nvSpPr>
          <p:spPr>
            <a:xfrm>
              <a:off x="5522760" y="2239920"/>
              <a:ext cx="109404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2264760" y="1911240"/>
              <a:ext cx="6531120" cy="2270880"/>
              <a:chOff x="2264760" y="1911240"/>
              <a:chExt cx="6531120" cy="2270880"/>
            </a:xfrm>
          </p:grpSpPr>
          <p:sp>
            <p:nvSpPr>
              <p:cNvPr id="464" name=""/>
              <p:cNvSpPr/>
              <p:nvPr/>
            </p:nvSpPr>
            <p:spPr>
              <a:xfrm>
                <a:off x="2264760" y="1957320"/>
                <a:ext cx="6531120" cy="177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Good vocoder: 8 Kbps:</a:t>
                </a:r>
                <a:br>
                  <a:rPr sz="2000"/>
                </a:b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1 packet / 10 ms                                         80% Overh.</a:t>
                </a:r>
                <a:br>
                  <a:rPr sz="2000"/>
                </a:b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 packet / 20 ms                                         66% Overh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378400" y="2079360"/>
                <a:ext cx="3262320" cy="14436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4864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6386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7913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9436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0958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2485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4008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5530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7057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8580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0102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1629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3152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4674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6201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7724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9246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80773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82296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83818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85345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7" name=""/>
              <p:cNvGrpSpPr/>
              <p:nvPr/>
            </p:nvGrpSpPr>
            <p:grpSpPr>
              <a:xfrm>
                <a:off x="4535640" y="2617560"/>
                <a:ext cx="2714400" cy="465120"/>
                <a:chOff x="4535640" y="2617560"/>
                <a:chExt cx="2714400" cy="46512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4535640" y="2617560"/>
                  <a:ext cx="2205000" cy="46512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333333"/>
                      </a:solidFill>
                      <a:latin typeface="Arial"/>
                    </a:rPr>
                    <a:t>head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6748560" y="2617560"/>
                  <a:ext cx="501480" cy="46512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0" name=""/>
              <p:cNvGrpSpPr/>
              <p:nvPr/>
            </p:nvGrpSpPr>
            <p:grpSpPr>
              <a:xfrm>
                <a:off x="4548240" y="3416040"/>
                <a:ext cx="2714400" cy="465120"/>
                <a:chOff x="4548240" y="3416040"/>
                <a:chExt cx="2714400" cy="46512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4548240" y="3416040"/>
                  <a:ext cx="1936800" cy="46512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333333"/>
                      </a:solidFill>
                      <a:latin typeface="Arial"/>
                    </a:rPr>
                    <a:t>head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6491160" y="3416040"/>
                  <a:ext cx="771480" cy="46512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3" name=""/>
              <p:cNvSpPr/>
              <p:nvPr/>
            </p:nvSpPr>
            <p:spPr>
              <a:xfrm>
                <a:off x="5665680" y="2222280"/>
                <a:ext cx="1522440" cy="39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561200" y="3046320"/>
                <a:ext cx="2603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Arial"/>
                  </a:rPr>
                  <a:t>Bytes:      40                  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556160" y="3844800"/>
                <a:ext cx="2547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Arial"/>
                  </a:rPr>
                  <a:t>Bytes:      40                 2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E2177-0653-406A-9D04-F75C0DC636D7}" type="slidenum">
              <a:t>10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 layer QoS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47760" y="919080"/>
            <a:ext cx="1874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2130120" y="906480"/>
            <a:ext cx="6643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OS byte cheaters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(I.e. teenagers playing Quake, etc.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OS byte monitoring and control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Differentiate voice from data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Queuing policy is critica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Differentiated IP queuing treatment for voice, 911, system, mgmt, and user data packet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FF2F4-5104-4E1D-A002-DBCC3DF79EFF}" type="slidenum">
              <a:t>11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 layer QoS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47760" y="919080"/>
            <a:ext cx="1874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1736280" y="906480"/>
            <a:ext cx="73724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How to exploit application-layer knowledge to maximize efficiency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apability to make intelligent QoS-related requests of underlying layers</a:t>
            </a: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How to have lower layers influence application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Integrated strategy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57320" y="533520"/>
            <a:ext cx="87706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Interplay between application and network lay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116080" y="2660760"/>
            <a:ext cx="67406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Consid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witch from 8 to 64-bit vocoder for FAX or mod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having 911 calls preempt an existing c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157480" y="5273640"/>
            <a:ext cx="6489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Consider: AI layer requesting application to cut vocoder rate in  9/11 or X-mas congestion situation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52EF7-FFB2-4C8D-9BC0-217B06011DCE}" type="slidenum">
              <a:t>12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ottom l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33360" y="100008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t’s not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t’s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1348920" y="1001880"/>
            <a:ext cx="6642360" cy="46605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Bits / hz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rofit / Hz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= (bits/Hz)*(revenue/sub) / (bits/sub) 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   – (cost/Hz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20840" y="3675240"/>
            <a:ext cx="931680" cy="518760"/>
          </a:xfrm>
          <a:prstGeom prst="rightArrow">
            <a:avLst>
              <a:gd name="adj1" fmla="val 50000"/>
              <a:gd name="adj2" fmla="val 44899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68440" y="3711600"/>
            <a:ext cx="76755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maximize spectral efficiency for highest capacity (bits/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maximize revenue/bit with high-margin services like voice</a:t>
            </a:r>
            <a:br>
              <a:rPr sz="2000"/>
            </a:b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  (revenue/su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minimize bandwidth per sub for delivered services (bits/su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minimize overall system costs (cost/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5171B-934E-4C43-B1B8-D4BC1CDDCD4C}" type="slidenum">
              <a:t>13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73160" y="146160"/>
            <a:ext cx="878184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ice is a killer IP application . . 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39320" y="993240"/>
            <a:ext cx="888372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7360" indent="-117360">
              <a:spcBef>
                <a:spcPts val="1500"/>
              </a:spcBef>
              <a:buClr>
                <a:srgbClr val="003399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oice, if done right (i.e. toll-quality + features), can generate 50% of revenue, but only costs 5% of bandwidth.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57320" y="533520"/>
            <a:ext cx="87706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. . . but it is not eas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36600" y="1987560"/>
            <a:ext cx="116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Iss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635120" y="2008080"/>
            <a:ext cx="672300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Worst case delay budget is 200 ms., consider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vocoder processing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packetization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queuing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modem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radio frame wait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serial transmissio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router and switch forwarding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receive jitter buffer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PSTN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5FECE-7266-49B8-AFF3-D90F3CFE59A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-682920" y="128520"/>
            <a:ext cx="969012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A’s Amosphere: cost-effective toll-quality Voice +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9480" y="923760"/>
            <a:ext cx="8901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7360" indent="-117360">
              <a:spcBef>
                <a:spcPts val="1250"/>
              </a:spcBef>
              <a:buClr>
                <a:srgbClr val="003399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SOMA’s Amosphere addresses this challenge: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 100 ms voice delay between CPE and PST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 200 ms voice delay between two Amosphere CPE’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spcBef>
                <a:spcPts val="1250"/>
              </a:spcBef>
              <a:buClr>
                <a:srgbClr val="003399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with large efficiency gains over competing solutions: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+50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 air interface coding tailored to vo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+50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 VAD + CNI + CD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+25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 extreme header compres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+15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for distributed (localized) intelligence to collect digit, generate dial, ring, and busy tones, and the processing of announcements, speed-dialing, call forwarding call-scree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63520" y="4915080"/>
            <a:ext cx="716040" cy="339480"/>
          </a:xfrm>
          <a:prstGeom prst="rightArrow">
            <a:avLst>
              <a:gd name="adj1" fmla="val 50000"/>
              <a:gd name="adj2" fmla="val 52731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135440" y="4849920"/>
            <a:ext cx="399852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Efficiency gain factor of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6 times more subscri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600% increase in voice reven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63520" y="5276880"/>
            <a:ext cx="716040" cy="339840"/>
          </a:xfrm>
          <a:prstGeom prst="rightArrow">
            <a:avLst>
              <a:gd name="adj1" fmla="val 50000"/>
              <a:gd name="adj2" fmla="val 52675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63520" y="5621400"/>
            <a:ext cx="716040" cy="339840"/>
          </a:xfrm>
          <a:prstGeom prst="rightArrow">
            <a:avLst>
              <a:gd name="adj1" fmla="val 50000"/>
              <a:gd name="adj2" fmla="val 52675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BD5E2-8FD9-4207-A706-268E0A96A18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41440" y="61920"/>
            <a:ext cx="751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A Meets the Six Requirements f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ofit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195240" y="2714760"/>
            <a:ext cx="16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 truck ro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200640" y="2989440"/>
            <a:ext cx="2630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steering antenna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line-of-s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les building penetration 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3195720" y="2755800"/>
            <a:ext cx="1311120" cy="876240"/>
          </a:xfrm>
          <a:prstGeom prst="rect">
            <a:avLst/>
          </a:prstGeom>
          <a:ln w="9360">
            <a:solidFill>
              <a:srgbClr val="c8c0c6"/>
            </a:solidFill>
            <a:miter/>
          </a:ln>
        </p:spPr>
      </p:pic>
      <p:sp>
        <p:nvSpPr>
          <p:cNvPr id="525" name=""/>
          <p:cNvSpPr/>
          <p:nvPr/>
        </p:nvSpPr>
        <p:spPr>
          <a:xfrm>
            <a:off x="2952720" y="1949400"/>
            <a:ext cx="3086280" cy="2541600"/>
          </a:xfrm>
          <a:prstGeom prst="ellipse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646960" y="442260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acilities-b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544760" y="105732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oll-quality voice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691960" y="1289160"/>
            <a:ext cx="30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lf-provision &amp; self-se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64760" y="4419720"/>
            <a:ext cx="354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apid, low-cost feature deli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94360" y="2751840"/>
            <a:ext cx="18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roadband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726160" y="1568520"/>
            <a:ext cx="284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t-era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and VoiceXML IVR t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-the-air service acti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09760" y="4710240"/>
            <a:ext cx="3806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ervice creation and execution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through cap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cally open API + SD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fied transport, control, and signal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60240" y="2986920"/>
            <a:ext cx="2062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gabit Internet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P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advanced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549080" y="1324080"/>
            <a:ext cx="1759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-in ground-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ular POTS ph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oS from air to a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avail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j0178677" descr=""/>
          <p:cNvPicPr/>
          <p:nvPr/>
        </p:nvPicPr>
        <p:blipFill>
          <a:blip r:embed="rId2"/>
          <a:stretch/>
        </p:blipFill>
        <p:spPr>
          <a:xfrm>
            <a:off x="4529160" y="2755800"/>
            <a:ext cx="1311120" cy="873360"/>
          </a:xfrm>
          <a:prstGeom prst="rect">
            <a:avLst/>
          </a:prstGeom>
          <a:ln w="9360">
            <a:solidFill>
              <a:srgbClr val="c8c0c6"/>
            </a:solidFill>
            <a:miter/>
          </a:ln>
        </p:spPr>
      </p:pic>
      <p:sp>
        <p:nvSpPr>
          <p:cNvPr id="536" name=""/>
          <p:cNvSpPr/>
          <p:nvPr/>
        </p:nvSpPr>
        <p:spPr>
          <a:xfrm>
            <a:off x="5681520" y="4716360"/>
            <a:ext cx="2449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-of-the-art SAI ra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ired 5MHz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:1 frequency re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95E46-392E-46D2-879D-17A2CA6A3CB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ll-quality Voice: Critically Important for BWA Networ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74560" y="134928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500"/>
              </a:spcBef>
              <a:buClr>
                <a:srgbClr val="cc0000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Premis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114280" y="1351080"/>
            <a:ext cx="6319800" cy="40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oll quality voice is critical to make the business case work for the new generation, non-line-of-sight, residential  Wireless Broadband Access solutions.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7320" y="533520"/>
            <a:ext cx="87706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The name of the game is revenue gener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195720" y="4048200"/>
            <a:ext cx="1311120" cy="876240"/>
          </a:xfrm>
          <a:prstGeom prst="rect">
            <a:avLst/>
          </a:prstGeom>
          <a:ln w="9360">
            <a:solidFill>
              <a:srgbClr val="c8c0c6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2952720" y="3241800"/>
            <a:ext cx="3086280" cy="2541600"/>
          </a:xfrm>
          <a:prstGeom prst="ellipse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j0178677" descr=""/>
          <p:cNvPicPr/>
          <p:nvPr/>
        </p:nvPicPr>
        <p:blipFill>
          <a:blip r:embed="rId2"/>
          <a:stretch/>
        </p:blipFill>
        <p:spPr>
          <a:xfrm>
            <a:off x="4529160" y="4048200"/>
            <a:ext cx="1311120" cy="873000"/>
          </a:xfrm>
          <a:prstGeom prst="rect">
            <a:avLst/>
          </a:prstGeom>
          <a:ln w="9360">
            <a:solidFill>
              <a:srgbClr val="c8c0c6"/>
            </a:solidFill>
            <a:miter/>
          </a:ln>
        </p:spPr>
      </p:pic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7C5AB-6B47-4F92-9C81-9881284E05F8}" type="slidenum">
              <a:t>2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30120" y="1258920"/>
            <a:ext cx="6145200" cy="444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0000" y="1527120"/>
            <a:ext cx="3340080" cy="39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0000" y="5427720"/>
            <a:ext cx="334008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0000" y="4775040"/>
            <a:ext cx="5564160" cy="180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40000" y="4122720"/>
            <a:ext cx="552744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0000" y="3484440"/>
            <a:ext cx="5564160" cy="180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40000" y="2832120"/>
            <a:ext cx="554508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40000" y="2179800"/>
            <a:ext cx="554508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40000" y="1527120"/>
            <a:ext cx="3340080" cy="180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40000" y="1527120"/>
            <a:ext cx="3340080" cy="3900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40000" y="1527120"/>
            <a:ext cx="1440" cy="390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89240" y="542772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89240" y="477504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89240" y="412272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89240" y="348444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89240" y="283212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89240" y="217980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89240" y="152712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708120" y="1425600"/>
            <a:ext cx="587520" cy="4127400"/>
            <a:chOff x="708120" y="1425600"/>
            <a:chExt cx="587520" cy="4127400"/>
          </a:xfrm>
        </p:grpSpPr>
        <p:sp>
          <p:nvSpPr>
            <p:cNvPr id="129" name=""/>
            <p:cNvSpPr/>
            <p:nvPr/>
          </p:nvSpPr>
          <p:spPr>
            <a:xfrm>
              <a:off x="887760" y="532440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98840" y="4673520"/>
              <a:ext cx="48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98840" y="4021200"/>
              <a:ext cx="48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98840" y="3381480"/>
              <a:ext cx="48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98840" y="2728800"/>
              <a:ext cx="48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8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08120" y="2077920"/>
              <a:ext cx="587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0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08120" y="1425600"/>
              <a:ext cx="587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2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 rot="16200000">
            <a:off x="-639360" y="3462480"/>
            <a:ext cx="218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nthly Revenue/User in US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7396200" y="5761080"/>
            <a:ext cx="1289520" cy="228600"/>
            <a:chOff x="7396200" y="5761080"/>
            <a:chExt cx="1289520" cy="228600"/>
          </a:xfrm>
        </p:grpSpPr>
        <p:sp>
          <p:nvSpPr>
            <p:cNvPr id="138" name=""/>
            <p:cNvSpPr/>
            <p:nvPr/>
          </p:nvSpPr>
          <p:spPr>
            <a:xfrm>
              <a:off x="7396200" y="5824440"/>
              <a:ext cx="90720" cy="90720"/>
            </a:xfrm>
            <a:prstGeom prst="rect">
              <a:avLst/>
            </a:prstGeom>
            <a:solidFill>
              <a:srgbClr val="0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34440" y="5761080"/>
              <a:ext cx="1151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Web servic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659560" y="5761080"/>
            <a:ext cx="1364400" cy="228600"/>
            <a:chOff x="5659560" y="5761080"/>
            <a:chExt cx="1364400" cy="228600"/>
          </a:xfrm>
        </p:grpSpPr>
        <p:sp>
          <p:nvSpPr>
            <p:cNvPr id="141" name=""/>
            <p:cNvSpPr/>
            <p:nvPr/>
          </p:nvSpPr>
          <p:spPr>
            <a:xfrm>
              <a:off x="5659560" y="5824800"/>
              <a:ext cx="102960" cy="1029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97800" y="5761080"/>
              <a:ext cx="1226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Long Distanc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3754440" y="5761080"/>
            <a:ext cx="1533960" cy="228600"/>
            <a:chOff x="3754440" y="5761080"/>
            <a:chExt cx="1533960" cy="228600"/>
          </a:xfrm>
        </p:grpSpPr>
        <p:sp>
          <p:nvSpPr>
            <p:cNvPr id="144" name=""/>
            <p:cNvSpPr/>
            <p:nvPr/>
          </p:nvSpPr>
          <p:spPr>
            <a:xfrm>
              <a:off x="3754440" y="5826240"/>
              <a:ext cx="102960" cy="1015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93040" y="5761080"/>
              <a:ext cx="1395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alling Featur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2252520" y="5761080"/>
            <a:ext cx="1131120" cy="228600"/>
            <a:chOff x="2252520" y="5761080"/>
            <a:chExt cx="1131120" cy="228600"/>
          </a:xfrm>
        </p:grpSpPr>
        <p:sp>
          <p:nvSpPr>
            <p:cNvPr id="147" name=""/>
            <p:cNvSpPr/>
            <p:nvPr/>
          </p:nvSpPr>
          <p:spPr>
            <a:xfrm>
              <a:off x="2252520" y="5825880"/>
              <a:ext cx="103320" cy="1018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392200" y="5761080"/>
              <a:ext cx="99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Local Voic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6600" y="5761080"/>
            <a:ext cx="1545120" cy="228600"/>
            <a:chOff x="336600" y="5761080"/>
            <a:chExt cx="1545120" cy="228600"/>
          </a:xfrm>
        </p:grpSpPr>
        <p:sp>
          <p:nvSpPr>
            <p:cNvPr id="150" name=""/>
            <p:cNvSpPr/>
            <p:nvPr/>
          </p:nvSpPr>
          <p:spPr>
            <a:xfrm>
              <a:off x="336600" y="5824800"/>
              <a:ext cx="103320" cy="1015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75920" y="5761080"/>
              <a:ext cx="1405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sidential Dat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2816280" y="4378320"/>
            <a:ext cx="6001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28880" y="3484440"/>
            <a:ext cx="60012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05200" y="2998800"/>
            <a:ext cx="5112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28880" y="2511360"/>
            <a:ext cx="60012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28880" y="2025720"/>
            <a:ext cx="60012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770120" y="3665520"/>
            <a:ext cx="1338120" cy="1762200"/>
            <a:chOff x="1770120" y="3665520"/>
            <a:chExt cx="1338120" cy="1762200"/>
          </a:xfrm>
        </p:grpSpPr>
        <p:grpSp>
          <p:nvGrpSpPr>
            <p:cNvPr id="158" name=""/>
            <p:cNvGrpSpPr/>
            <p:nvPr/>
          </p:nvGrpSpPr>
          <p:grpSpPr>
            <a:xfrm>
              <a:off x="1770120" y="3983040"/>
              <a:ext cx="1338120" cy="1444680"/>
              <a:chOff x="1770120" y="3983040"/>
              <a:chExt cx="1338120" cy="1444680"/>
            </a:xfrm>
          </p:grpSpPr>
          <p:sp>
            <p:nvSpPr>
              <p:cNvPr id="159" name=""/>
              <p:cNvSpPr/>
              <p:nvPr/>
            </p:nvSpPr>
            <p:spPr>
              <a:xfrm>
                <a:off x="1770120" y="3983040"/>
                <a:ext cx="1338120" cy="144468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191680" y="439092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44.35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1770120" y="3665520"/>
              <a:ext cx="1338120" cy="318960"/>
              <a:chOff x="1770120" y="3665520"/>
              <a:chExt cx="1338120" cy="318960"/>
            </a:xfrm>
          </p:grpSpPr>
          <p:sp>
            <p:nvSpPr>
              <p:cNvPr id="162" name=""/>
              <p:cNvSpPr/>
              <p:nvPr/>
            </p:nvSpPr>
            <p:spPr>
              <a:xfrm>
                <a:off x="1770120" y="3665520"/>
                <a:ext cx="1338120" cy="31896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204280" y="376848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10.0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3160" y="180720"/>
            <a:ext cx="878184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enue per user per mon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31600" y="6318360"/>
            <a:ext cx="505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Goldman Sachs Equity Research, FCC, Verio Web Hos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7134120" y="2181240"/>
            <a:ext cx="1726200" cy="3174840"/>
            <a:chOff x="7134120" y="2181240"/>
            <a:chExt cx="1726200" cy="3174840"/>
          </a:xfrm>
        </p:grpSpPr>
        <p:grpSp>
          <p:nvGrpSpPr>
            <p:cNvPr id="167" name=""/>
            <p:cNvGrpSpPr/>
            <p:nvPr/>
          </p:nvGrpSpPr>
          <p:grpSpPr>
            <a:xfrm>
              <a:off x="7146720" y="2854440"/>
              <a:ext cx="736920" cy="1028520"/>
              <a:chOff x="7146720" y="2854440"/>
              <a:chExt cx="736920" cy="1028520"/>
            </a:xfrm>
          </p:grpSpPr>
          <p:sp>
            <p:nvSpPr>
              <p:cNvPr id="168" name=""/>
              <p:cNvSpPr/>
              <p:nvPr/>
            </p:nvSpPr>
            <p:spPr>
              <a:xfrm>
                <a:off x="7297560" y="3171960"/>
                <a:ext cx="58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ILE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146720" y="2854440"/>
                <a:ext cx="177840" cy="1028520"/>
              </a:xfrm>
              <a:custGeom>
                <a:avLst/>
                <a:gdLst>
                  <a:gd name="textAreaLeft" fmla="*/ 0 w 177840"/>
                  <a:gd name="textAreaRight" fmla="*/ 64080 w 177840"/>
                  <a:gd name="textAreaTop" fmla="*/ 26640 h 1028520"/>
                  <a:gd name="textAreaBottom" fmla="*/ 1001880 h 1028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7172280" y="3946680"/>
              <a:ext cx="1688040" cy="1409400"/>
              <a:chOff x="7172280" y="3946680"/>
              <a:chExt cx="1688040" cy="1409400"/>
            </a:xfrm>
          </p:grpSpPr>
          <p:sp>
            <p:nvSpPr>
              <p:cNvPr id="171" name=""/>
              <p:cNvSpPr/>
              <p:nvPr/>
            </p:nvSpPr>
            <p:spPr>
              <a:xfrm>
                <a:off x="7297200" y="4492440"/>
                <a:ext cx="156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DLEC and CATV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172280" y="3946680"/>
                <a:ext cx="164880" cy="1409400"/>
              </a:xfrm>
              <a:custGeom>
                <a:avLst/>
                <a:gdLst>
                  <a:gd name="textAreaLeft" fmla="*/ 0 w 164880"/>
                  <a:gd name="textAreaRight" fmla="*/ 59400 w 164880"/>
                  <a:gd name="textAreaTop" fmla="*/ 36720 h 1409400"/>
                  <a:gd name="textAreaBottom" fmla="*/ 1372680 h 1409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7134120" y="2181240"/>
              <a:ext cx="641520" cy="647640"/>
              <a:chOff x="7134120" y="2181240"/>
              <a:chExt cx="641520" cy="647640"/>
            </a:xfrm>
          </p:grpSpPr>
          <p:sp>
            <p:nvSpPr>
              <p:cNvPr id="174" name=""/>
              <p:cNvSpPr/>
              <p:nvPr/>
            </p:nvSpPr>
            <p:spPr>
              <a:xfrm>
                <a:off x="7297560" y="234648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IX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134120" y="2181240"/>
                <a:ext cx="190440" cy="647640"/>
              </a:xfrm>
              <a:custGeom>
                <a:avLst/>
                <a:gdLst>
                  <a:gd name="textAreaLeft" fmla="*/ 0 w 190440"/>
                  <a:gd name="textAreaRight" fmla="*/ 68760 w 190440"/>
                  <a:gd name="textAreaTop" fmla="*/ 16560 h 647640"/>
                  <a:gd name="textAreaBottom" fmla="*/ 631080 h 64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6" name=""/>
          <p:cNvSpPr/>
          <p:nvPr/>
        </p:nvSpPr>
        <p:spPr>
          <a:xfrm>
            <a:off x="2072160" y="11462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805280" y="1949400"/>
            <a:ext cx="1338480" cy="3490920"/>
            <a:chOff x="4805280" y="1949400"/>
            <a:chExt cx="1338480" cy="3490920"/>
          </a:xfrm>
        </p:grpSpPr>
        <p:grpSp>
          <p:nvGrpSpPr>
            <p:cNvPr id="178" name=""/>
            <p:cNvGrpSpPr/>
            <p:nvPr/>
          </p:nvGrpSpPr>
          <p:grpSpPr>
            <a:xfrm>
              <a:off x="4805280" y="3995640"/>
              <a:ext cx="1338480" cy="1444680"/>
              <a:chOff x="4805280" y="3995640"/>
              <a:chExt cx="1338480" cy="1444680"/>
            </a:xfrm>
          </p:grpSpPr>
          <p:sp>
            <p:nvSpPr>
              <p:cNvPr id="179" name=""/>
              <p:cNvSpPr/>
              <p:nvPr/>
            </p:nvSpPr>
            <p:spPr>
              <a:xfrm>
                <a:off x="4805280" y="3995640"/>
                <a:ext cx="1338480" cy="144468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227200" y="440352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44.35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4805280" y="3279600"/>
              <a:ext cx="1338480" cy="716040"/>
              <a:chOff x="4805280" y="3279600"/>
              <a:chExt cx="1338480" cy="716040"/>
            </a:xfrm>
          </p:grpSpPr>
          <p:sp>
            <p:nvSpPr>
              <p:cNvPr id="182" name=""/>
              <p:cNvSpPr/>
              <p:nvPr/>
            </p:nvSpPr>
            <p:spPr>
              <a:xfrm>
                <a:off x="4805280" y="3279600"/>
                <a:ext cx="1338480" cy="716040"/>
              </a:xfrm>
              <a:prstGeom prst="rect">
                <a:avLst/>
              </a:pr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240160" y="351000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22.24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805280" y="2946240"/>
              <a:ext cx="1338480" cy="333360"/>
              <a:chOff x="4805280" y="2946240"/>
              <a:chExt cx="1338480" cy="333360"/>
            </a:xfrm>
          </p:grpSpPr>
          <p:sp>
            <p:nvSpPr>
              <p:cNvPr id="185" name=""/>
              <p:cNvSpPr/>
              <p:nvPr/>
            </p:nvSpPr>
            <p:spPr>
              <a:xfrm>
                <a:off x="4805280" y="2946240"/>
                <a:ext cx="1338480" cy="3333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316120" y="3024000"/>
                <a:ext cx="412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9.99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805280" y="2268360"/>
              <a:ext cx="1338480" cy="677880"/>
              <a:chOff x="4805280" y="2268360"/>
              <a:chExt cx="1338480" cy="677880"/>
            </a:xfrm>
          </p:grpSpPr>
          <p:sp>
            <p:nvSpPr>
              <p:cNvPr id="188" name=""/>
              <p:cNvSpPr/>
              <p:nvPr/>
            </p:nvSpPr>
            <p:spPr>
              <a:xfrm>
                <a:off x="4805280" y="2268360"/>
                <a:ext cx="1338480" cy="6778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240160" y="253836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21.0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4805280" y="1949400"/>
              <a:ext cx="1338480" cy="318960"/>
              <a:chOff x="4805280" y="1949400"/>
              <a:chExt cx="1338480" cy="318960"/>
            </a:xfrm>
          </p:grpSpPr>
          <p:sp>
            <p:nvSpPr>
              <p:cNvPr id="191" name=""/>
              <p:cNvSpPr/>
              <p:nvPr/>
            </p:nvSpPr>
            <p:spPr>
              <a:xfrm>
                <a:off x="4805280" y="1949400"/>
                <a:ext cx="1338480" cy="31896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240160" y="205236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10.0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3" name=""/>
          <p:cNvSpPr/>
          <p:nvPr/>
        </p:nvSpPr>
        <p:spPr>
          <a:xfrm>
            <a:off x="3612600" y="114624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v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05480" y="1146240"/>
            <a:ext cx="17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Voice &amp;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7320" y="533520"/>
            <a:ext cx="87706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Voice is a killer IP app if toll-quality + featur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B92FA-D03A-4627-8852-CF9951CD24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yering a standard VoIP protocol ain’t gonna cut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47760" y="134928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500"/>
              </a:spcBef>
              <a:buClr>
                <a:srgbClr val="cc0000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hesis 1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2114640" y="1351080"/>
            <a:ext cx="6642000" cy="40161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Simply layering a VoIP protocol, such as H.323 or SIP, over a data-oriented IP pipe is not a suitable solution, as it either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99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will not have the required quality, or it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99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will not be cost-effective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C0CE3-00BD-4DB1-A70C-9FB75DCFAF54}" type="slidenum">
              <a:t>4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3160" y="146160"/>
            <a:ext cx="878184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Problem: contention is the n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734000" y="985680"/>
            <a:ext cx="1063440" cy="1397160"/>
            <a:chOff x="4734000" y="985680"/>
            <a:chExt cx="1063440" cy="1397160"/>
          </a:xfrm>
        </p:grpSpPr>
        <p:pic>
          <p:nvPicPr>
            <p:cNvPr id="201" name="NPM-Rack%206D" descr=""/>
            <p:cNvPicPr/>
            <p:nvPr/>
          </p:nvPicPr>
          <p:blipFill>
            <a:blip r:embed="rId1"/>
            <a:stretch/>
          </p:blipFill>
          <p:spPr>
            <a:xfrm flipH="1">
              <a:off x="5307120" y="1562040"/>
              <a:ext cx="490320" cy="82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2"/>
            <a:stretch/>
          </p:blipFill>
          <p:spPr>
            <a:xfrm>
              <a:off x="4734000" y="985680"/>
              <a:ext cx="550800" cy="1293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3" name=""/>
          <p:cNvGrpSpPr/>
          <p:nvPr/>
        </p:nvGrpSpPr>
        <p:grpSpPr>
          <a:xfrm>
            <a:off x="358920" y="1325520"/>
            <a:ext cx="2395440" cy="1771560"/>
            <a:chOff x="358920" y="1325520"/>
            <a:chExt cx="2395440" cy="1771560"/>
          </a:xfrm>
        </p:grpSpPr>
        <p:pic>
          <p:nvPicPr>
            <p:cNvPr id="204" name="hh00439_" descr=""/>
            <p:cNvPicPr/>
            <p:nvPr/>
          </p:nvPicPr>
          <p:blipFill>
            <a:blip r:embed="rId3"/>
            <a:stretch/>
          </p:blipFill>
          <p:spPr>
            <a:xfrm>
              <a:off x="1596960" y="1325520"/>
              <a:ext cx="417600" cy="2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4"/>
            <a:stretch/>
          </p:blipFill>
          <p:spPr>
            <a:xfrm>
              <a:off x="358920" y="2440080"/>
              <a:ext cx="860400" cy="65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netportW" descr=""/>
            <p:cNvPicPr/>
            <p:nvPr/>
          </p:nvPicPr>
          <p:blipFill>
            <a:blip r:embed="rId5"/>
            <a:stretch/>
          </p:blipFill>
          <p:spPr>
            <a:xfrm>
              <a:off x="2060640" y="1522440"/>
              <a:ext cx="693720" cy="65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6"/>
            <a:stretch/>
          </p:blipFill>
          <p:spPr>
            <a:xfrm>
              <a:off x="888840" y="1942920"/>
              <a:ext cx="1433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1275120" y="2033640"/>
              <a:ext cx="883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33"/>
                  </a:solidFill>
                  <a:latin typeface="Arial"/>
                </a:rPr>
                <a:t>Home</a:t>
              </a:r>
              <a:br>
                <a:rPr sz="1400"/>
              </a:br>
              <a:r>
                <a:rPr b="1" lang="en-US" sz="1400" spc="-1" strike="noStrike">
                  <a:solidFill>
                    <a:srgbClr val="333333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2886120" y="1160640"/>
            <a:ext cx="1882800" cy="591840"/>
          </a:xfrm>
          <a:custGeom>
            <a:avLst/>
            <a:gdLst/>
            <a:ahLst/>
            <a:rect l="l" t="t" r="r" b="b"/>
            <a:pathLst>
              <a:path w="1186" h="373">
                <a:moveTo>
                  <a:pt x="0" y="373"/>
                </a:moveTo>
                <a:lnTo>
                  <a:pt x="678" y="147"/>
                </a:lnTo>
                <a:lnTo>
                  <a:pt x="565" y="249"/>
                </a:lnTo>
                <a:lnTo>
                  <a:pt x="118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5518080" y="1000080"/>
            <a:ext cx="3441240" cy="2419200"/>
            <a:chOff x="5518080" y="1000080"/>
            <a:chExt cx="3441240" cy="2419200"/>
          </a:xfrm>
        </p:grpSpPr>
        <p:pic>
          <p:nvPicPr>
            <p:cNvPr id="211" name="" descr=""/>
            <p:cNvPicPr/>
            <p:nvPr/>
          </p:nvPicPr>
          <p:blipFill>
            <a:blip r:embed="rId7"/>
            <a:stretch/>
          </p:blipFill>
          <p:spPr>
            <a:xfrm>
              <a:off x="5518080" y="1030320"/>
              <a:ext cx="3065400" cy="18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6462360" y="1817640"/>
              <a:ext cx="149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acket Co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186040" y="1000080"/>
              <a:ext cx="72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PST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036280" y="2838600"/>
              <a:ext cx="923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Public</a:t>
              </a:r>
              <a:br>
                <a:rPr sz="1600"/>
              </a:b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Intern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086680" y="2649600"/>
              <a:ext cx="268200" cy="21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8372520" y="1322280"/>
              <a:ext cx="358560" cy="23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247320" y="423720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Bandwidt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76400" y="4705200"/>
            <a:ext cx="1577880" cy="57492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654280" y="4937040"/>
            <a:ext cx="294012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594400" y="4238640"/>
            <a:ext cx="2940120" cy="15048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76400" y="4238640"/>
            <a:ext cx="7475400" cy="698400"/>
          </a:xfrm>
          <a:custGeom>
            <a:avLst/>
            <a:gdLst/>
            <a:ahLst/>
            <a:rect l="l" t="t" r="r" b="b"/>
            <a:pathLst>
              <a:path w="4709" h="440">
                <a:moveTo>
                  <a:pt x="0" y="294"/>
                </a:moveTo>
                <a:lnTo>
                  <a:pt x="994" y="294"/>
                </a:lnTo>
                <a:lnTo>
                  <a:pt x="994" y="440"/>
                </a:lnTo>
                <a:lnTo>
                  <a:pt x="2846" y="440"/>
                </a:lnTo>
                <a:lnTo>
                  <a:pt x="2846" y="0"/>
                </a:lnTo>
                <a:lnTo>
                  <a:pt x="470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071720" y="5036760"/>
            <a:ext cx="7475400" cy="698400"/>
          </a:xfrm>
          <a:custGeom>
            <a:avLst/>
            <a:gdLst/>
            <a:ahLst/>
            <a:rect l="l" t="t" r="r" b="b"/>
            <a:pathLst>
              <a:path w="4709" h="440">
                <a:moveTo>
                  <a:pt x="0" y="294"/>
                </a:moveTo>
                <a:lnTo>
                  <a:pt x="994" y="294"/>
                </a:lnTo>
                <a:lnTo>
                  <a:pt x="994" y="440"/>
                </a:lnTo>
                <a:lnTo>
                  <a:pt x="2846" y="440"/>
                </a:lnTo>
                <a:lnTo>
                  <a:pt x="2846" y="0"/>
                </a:lnTo>
                <a:lnTo>
                  <a:pt x="470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4600" y="533520"/>
            <a:ext cx="877104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Bandwidth over the air is </a:t>
            </a:r>
            <a:r>
              <a:rPr b="1" lang="en-US" sz="1800" spc="-1" strike="noStrike" u="sng">
                <a:solidFill>
                  <a:srgbClr val="777777"/>
                </a:solidFill>
                <a:uFillTx/>
                <a:latin typeface="Arial"/>
              </a:rPr>
              <a:t>the</a:t>
            </a: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 critical resour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886120" y="3029040"/>
            <a:ext cx="231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limited, expensive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resource 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hat must be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managed efficient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649600" y="2631960"/>
            <a:ext cx="0" cy="17575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16480" y="2631960"/>
            <a:ext cx="0" cy="17575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73E14-6E75-4E69-A826-8B5BD5004B0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yering a standard VoIP protocol ain’t gonna cut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47760" y="1157040"/>
            <a:ext cx="171288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500"/>
              </a:spcBef>
              <a:buClr>
                <a:srgbClr val="cc0000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hesis 2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2114640" y="1158480"/>
            <a:ext cx="6642000" cy="16462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oice has to be engineered into all layers of communication ---  it cannot be added as an after-thought!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25360" y="5197320"/>
            <a:ext cx="8694720" cy="3938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Air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5360" y="4808520"/>
            <a:ext cx="8694720" cy="393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5360" y="4419720"/>
            <a:ext cx="8694720" cy="393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netportW" descr=""/>
          <p:cNvPicPr/>
          <p:nvPr/>
        </p:nvPicPr>
        <p:blipFill>
          <a:blip r:embed="rId1"/>
          <a:stretch/>
        </p:blipFill>
        <p:spPr>
          <a:xfrm>
            <a:off x="2440080" y="4778280"/>
            <a:ext cx="898560" cy="831960"/>
          </a:xfrm>
          <a:prstGeom prst="rect">
            <a:avLst/>
          </a:prstGeom>
          <a:ln w="0">
            <a:noFill/>
          </a:ln>
        </p:spPr>
      </p:pic>
      <p:grpSp>
        <p:nvGrpSpPr>
          <p:cNvPr id="234" name=""/>
          <p:cNvGrpSpPr/>
          <p:nvPr/>
        </p:nvGrpSpPr>
        <p:grpSpPr>
          <a:xfrm>
            <a:off x="6195960" y="4751280"/>
            <a:ext cx="617760" cy="855720"/>
            <a:chOff x="6195960" y="4751280"/>
            <a:chExt cx="617760" cy="855720"/>
          </a:xfrm>
        </p:grpSpPr>
        <p:sp>
          <p:nvSpPr>
            <p:cNvPr id="235" name=""/>
            <p:cNvSpPr/>
            <p:nvPr/>
          </p:nvSpPr>
          <p:spPr>
            <a:xfrm>
              <a:off x="6196320" y="4751640"/>
              <a:ext cx="308160" cy="8049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15040" y="4753080"/>
              <a:ext cx="271080" cy="803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6225840" y="4955400"/>
              <a:ext cx="249120" cy="119880"/>
              <a:chOff x="6225840" y="4955400"/>
              <a:chExt cx="249120" cy="119880"/>
            </a:xfrm>
          </p:grpSpPr>
          <p:sp>
            <p:nvSpPr>
              <p:cNvPr id="238" name=""/>
              <p:cNvSpPr/>
              <p:nvPr/>
            </p:nvSpPr>
            <p:spPr>
              <a:xfrm>
                <a:off x="6225840" y="4955400"/>
                <a:ext cx="249120" cy="11988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250320" y="4957920"/>
                <a:ext cx="2304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27336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28488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29640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30792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31908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33060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35868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37020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38172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39324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40476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41628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427800" y="4957920"/>
                <a:ext cx="2268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228360" y="495792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342840" y="4957920"/>
                <a:ext cx="16560" cy="1144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228360" y="501516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450120" y="495792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450120" y="501480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6225480" y="4870800"/>
              <a:ext cx="249120" cy="8424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225480" y="4843440"/>
              <a:ext cx="248760" cy="27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225480" y="5434920"/>
              <a:ext cx="248760" cy="1213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44560" y="4856400"/>
              <a:ext cx="32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422760" y="4856400"/>
              <a:ext cx="32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6225480" y="4780800"/>
              <a:ext cx="248760" cy="62640"/>
              <a:chOff x="6225480" y="4780800"/>
              <a:chExt cx="248760" cy="62640"/>
            </a:xfrm>
          </p:grpSpPr>
          <p:sp>
            <p:nvSpPr>
              <p:cNvPr id="264" name=""/>
              <p:cNvSpPr/>
              <p:nvPr/>
            </p:nvSpPr>
            <p:spPr>
              <a:xfrm>
                <a:off x="6225480" y="4780800"/>
                <a:ext cx="248760" cy="6264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23736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25212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26688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28128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29604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1044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32520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33960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35436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36876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38352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39828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41268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42744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44184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37360" y="5470560"/>
              <a:ext cx="226080" cy="79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195960" y="5556600"/>
              <a:ext cx="309600" cy="4068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11800" y="5563440"/>
              <a:ext cx="77040" cy="266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310440" y="5563440"/>
              <a:ext cx="76680" cy="266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09080" y="5563440"/>
              <a:ext cx="76680" cy="266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225480" y="4753440"/>
              <a:ext cx="248040" cy="27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235200" y="4762800"/>
              <a:ext cx="98280" cy="115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365160" y="4762080"/>
              <a:ext cx="98280" cy="115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212160" y="5596920"/>
              <a:ext cx="57600" cy="864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436800" y="5598000"/>
              <a:ext cx="57600" cy="9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504480" y="4752720"/>
              <a:ext cx="308160" cy="8049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23200" y="4751280"/>
              <a:ext cx="271080" cy="806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533640" y="4841280"/>
              <a:ext cx="249120" cy="8424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533640" y="5434560"/>
              <a:ext cx="248760" cy="1213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6533640" y="4779000"/>
              <a:ext cx="248760" cy="62640"/>
              <a:chOff x="6533640" y="4779000"/>
              <a:chExt cx="248760" cy="62640"/>
            </a:xfrm>
          </p:grpSpPr>
          <p:sp>
            <p:nvSpPr>
              <p:cNvPr id="295" name=""/>
              <p:cNvSpPr/>
              <p:nvPr/>
            </p:nvSpPr>
            <p:spPr>
              <a:xfrm>
                <a:off x="6533640" y="4779000"/>
                <a:ext cx="248760" cy="6264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54552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56028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57504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58944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60420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61860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63336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64776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66252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67692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69168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70644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72084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73560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75000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6545880" y="5470200"/>
              <a:ext cx="226080" cy="792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504120" y="5556240"/>
              <a:ext cx="309600" cy="4068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520320" y="5563080"/>
              <a:ext cx="77040" cy="2664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618960" y="5563080"/>
              <a:ext cx="76680" cy="2664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717240" y="5563080"/>
              <a:ext cx="76680" cy="2664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533640" y="4751640"/>
              <a:ext cx="248040" cy="27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543720" y="4761000"/>
              <a:ext cx="98280" cy="115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673680" y="4760640"/>
              <a:ext cx="98280" cy="115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520680" y="5596560"/>
              <a:ext cx="57600" cy="864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745320" y="5597640"/>
              <a:ext cx="57600" cy="9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532920" y="4925880"/>
              <a:ext cx="249840" cy="512280"/>
              <a:chOff x="6532920" y="4925880"/>
              <a:chExt cx="249840" cy="512280"/>
            </a:xfrm>
          </p:grpSpPr>
          <p:grpSp>
            <p:nvGrpSpPr>
              <p:cNvPr id="322" name=""/>
              <p:cNvGrpSpPr/>
              <p:nvPr/>
            </p:nvGrpSpPr>
            <p:grpSpPr>
              <a:xfrm>
                <a:off x="6533640" y="4925880"/>
                <a:ext cx="249120" cy="170640"/>
                <a:chOff x="6533640" y="4925880"/>
                <a:chExt cx="249120" cy="17064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6533640" y="4925880"/>
                  <a:ext cx="249120" cy="17064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6537960" y="492948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6550920" y="497088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6545160" y="506052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6597360" y="492948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6610320" y="497052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6604560" y="506052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6658200" y="492948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671160" y="497052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6665400" y="5060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19400" y="492948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6732000" y="4970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726600" y="5060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6533280" y="5096520"/>
                <a:ext cx="249120" cy="170640"/>
                <a:chOff x="6533280" y="5096520"/>
                <a:chExt cx="249120" cy="17064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6533280" y="5096520"/>
                  <a:ext cx="249120" cy="17064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6537600" y="5100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6550560" y="514152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6544800" y="5231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597000" y="5100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6609960" y="5141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6604200" y="5231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6657840" y="5100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6670800" y="5141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6665040" y="523080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6719040" y="5100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6731640" y="514080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6726240" y="523080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6532920" y="5267520"/>
                <a:ext cx="249120" cy="170640"/>
                <a:chOff x="6532920" y="5267520"/>
                <a:chExt cx="249120" cy="17064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6532920" y="5267520"/>
                  <a:ext cx="249120" cy="17064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6537240" y="5271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550200" y="531252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544440" y="5402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6596640" y="5271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6609600" y="5312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6603840" y="5402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6657480" y="5271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6670440" y="5312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6664680" y="540180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6718680" y="5271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6731280" y="531180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6725880" y="540180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4" name=""/>
            <p:cNvGrpSpPr/>
            <p:nvPr/>
          </p:nvGrpSpPr>
          <p:grpSpPr>
            <a:xfrm>
              <a:off x="6225840" y="5074920"/>
              <a:ext cx="249120" cy="119880"/>
              <a:chOff x="6225840" y="5074920"/>
              <a:chExt cx="249120" cy="119880"/>
            </a:xfrm>
          </p:grpSpPr>
          <p:sp>
            <p:nvSpPr>
              <p:cNvPr id="365" name=""/>
              <p:cNvSpPr/>
              <p:nvPr/>
            </p:nvSpPr>
            <p:spPr>
              <a:xfrm>
                <a:off x="6225840" y="5074920"/>
                <a:ext cx="249120" cy="11988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250320" y="5077440"/>
                <a:ext cx="2304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27336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28488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29640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30792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31908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33060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35868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37020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38172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39324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40476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41628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427800" y="5077440"/>
                <a:ext cx="2268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228360" y="507744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342840" y="5077440"/>
                <a:ext cx="16560" cy="1144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228360" y="513468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450120" y="507744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450120" y="513432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6225840" y="5194440"/>
              <a:ext cx="249120" cy="119520"/>
              <a:chOff x="6225840" y="5194440"/>
              <a:chExt cx="249120" cy="119520"/>
            </a:xfrm>
          </p:grpSpPr>
          <p:sp>
            <p:nvSpPr>
              <p:cNvPr id="386" name=""/>
              <p:cNvSpPr/>
              <p:nvPr/>
            </p:nvSpPr>
            <p:spPr>
              <a:xfrm>
                <a:off x="6225840" y="5194440"/>
                <a:ext cx="249120" cy="11952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250320" y="5196960"/>
                <a:ext cx="2304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27336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28488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29640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30792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31908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33060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35868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37020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38172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39324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40476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41628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427800" y="5196960"/>
                <a:ext cx="2268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228360" y="5196960"/>
                <a:ext cx="21960" cy="568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342840" y="5196960"/>
                <a:ext cx="16560" cy="11412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228360" y="5253840"/>
                <a:ext cx="21960" cy="568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450120" y="519696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450120" y="525384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6225840" y="5313960"/>
              <a:ext cx="249120" cy="119880"/>
              <a:chOff x="6225840" y="5313960"/>
              <a:chExt cx="249120" cy="119880"/>
            </a:xfrm>
          </p:grpSpPr>
          <p:sp>
            <p:nvSpPr>
              <p:cNvPr id="407" name=""/>
              <p:cNvSpPr/>
              <p:nvPr/>
            </p:nvSpPr>
            <p:spPr>
              <a:xfrm>
                <a:off x="6225840" y="5313960"/>
                <a:ext cx="249120" cy="11988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250320" y="5316480"/>
                <a:ext cx="2304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27336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28488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29640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30792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31908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33060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35868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37020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38172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39324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40476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41628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427800" y="5316480"/>
                <a:ext cx="2268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228360" y="531648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342840" y="5316480"/>
                <a:ext cx="16560" cy="1144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228360" y="537372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450120" y="531648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450120" y="537336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7" name=""/>
          <p:cNvSpPr/>
          <p:nvPr/>
        </p:nvSpPr>
        <p:spPr>
          <a:xfrm>
            <a:off x="225360" y="4030560"/>
            <a:ext cx="8694720" cy="393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TCP/U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25360" y="3641760"/>
            <a:ext cx="8694720" cy="393840"/>
          </a:xfrm>
          <a:prstGeom prst="rect">
            <a:avLst/>
          </a:prstGeom>
          <a:solidFill>
            <a:srgbClr val="ffff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R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25360" y="3252960"/>
            <a:ext cx="8694720" cy="393480"/>
          </a:xfrm>
          <a:prstGeom prst="rect">
            <a:avLst/>
          </a:prstGeom>
          <a:solidFill>
            <a:srgbClr val="ffff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Application: VoIP: H.323 / SIP /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C024E-48BC-464A-BB5E-95BFE0643085}" type="slidenum">
              <a:t>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r Interface QoS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47760" y="131436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Key 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2114640" y="1350720"/>
            <a:ext cx="6642000" cy="46083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IP data traffic different than voice traffic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3399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ditional Telco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View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et View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brid with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119160" indent="341280">
              <a:lnSpc>
                <a:spcPct val="90000"/>
              </a:lnSpc>
              <a:spcBef>
                <a:spcPts val="10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ynamic channel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resiz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9160" indent="341280">
              <a:lnSpc>
                <a:spcPct val="90000"/>
              </a:lnSpc>
              <a:spcBef>
                <a:spcPts val="10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werful R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9160" indent="341280">
              <a:lnSpc>
                <a:spcPct val="90000"/>
              </a:lnSpc>
              <a:spcBef>
                <a:spcPts val="10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er-density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mod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830840" y="201780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830840" y="213516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830840" y="190008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830840" y="225252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830840" y="237024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830840" y="248760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30840" y="260496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4830840" y="3052800"/>
            <a:ext cx="3925800" cy="987480"/>
            <a:chOff x="4830840" y="3052800"/>
            <a:chExt cx="3925800" cy="987480"/>
          </a:xfrm>
        </p:grpSpPr>
        <p:sp>
          <p:nvSpPr>
            <p:cNvPr id="441" name=""/>
            <p:cNvSpPr/>
            <p:nvPr/>
          </p:nvSpPr>
          <p:spPr>
            <a:xfrm>
              <a:off x="4830840" y="3052800"/>
              <a:ext cx="3925800" cy="71604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830840" y="3771720"/>
              <a:ext cx="3925800" cy="26856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830840" y="4405320"/>
            <a:ext cx="3925800" cy="1236600"/>
            <a:chOff x="4830840" y="4405320"/>
            <a:chExt cx="3925800" cy="1236600"/>
          </a:xfrm>
        </p:grpSpPr>
        <p:sp>
          <p:nvSpPr>
            <p:cNvPr id="444" name=""/>
            <p:cNvSpPr/>
            <p:nvPr/>
          </p:nvSpPr>
          <p:spPr>
            <a:xfrm>
              <a:off x="4830840" y="4405320"/>
              <a:ext cx="3925800" cy="1080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830840" y="4522680"/>
              <a:ext cx="3925800" cy="1080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30840" y="4640400"/>
              <a:ext cx="3925800" cy="10764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830840" y="4757760"/>
              <a:ext cx="3925800" cy="1080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830840" y="4865760"/>
              <a:ext cx="3925800" cy="50148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30840" y="5373720"/>
              <a:ext cx="3925800" cy="2682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0A254-50B5-4D09-9D41-854B8520AC6E}" type="slidenum">
              <a:t>7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r Interface QoS issues (cont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47760" y="131436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ic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2114640" y="1350720"/>
            <a:ext cx="6642000" cy="46083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oice has higher tolerance for bit errors than data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duce ARQ and FEC overheads for voice only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3E75D-A61E-4BF9-9C8E-F76091860A33}" type="slidenum">
              <a:t>8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k layer QoS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47760" y="134928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Key 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2114640" y="1350720"/>
            <a:ext cx="6642000" cy="46609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Large IP packet can unacceptably delay voice packet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acket preemption, fragmentation and reassembly at link layer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519280" y="2647800"/>
            <a:ext cx="141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870360" y="2665440"/>
            <a:ext cx="5040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200 Kbps uplink: one 1,500 byte packet can delay voice packet by 60 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= 1/3 of 200 ms end-to-end delay bu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58193-9C1B-4C57-BB9C-C8723DB271CE}" type="slidenum">
              <a:t>9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4T19:42:18Z</dcterms:created>
  <dc:creator>SOMA Networks, Inc.</dc:creator>
  <dc:description/>
  <dc:language>en-US</dc:language>
  <cp:lastModifiedBy>Karen Crain</cp:lastModifiedBy>
  <cp:lastPrinted>2000-03-30T21:39:35Z</cp:lastPrinted>
  <dcterms:modified xsi:type="dcterms:W3CDTF">2002-02-11T19:17:03Z</dcterms:modified>
  <cp:revision>52</cp:revision>
  <dc:subject/>
  <dc:title>SOMA Networks PowerPoint Template</dc:title>
</cp:coreProperties>
</file>