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E310-4057-4295-9DD0-A637DA8EC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E595-8DE6-4689-BEAF-92DB1002F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2D8C-58DA-4CC9-BB2C-57858EE4F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A675-2B48-4CAA-B459-34B26D3ED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A01E2-7795-4111-94ED-4232914EE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3C0CB-C6DC-4EB1-8BC6-AA1209C1A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4E1E5-BE0E-4CAF-875F-ADB7BBB05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0AFF1-66C8-4C0C-8697-380BAC3DB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0DB69-DC6D-4DC5-BCE1-674598088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56A0F-828A-44D3-A396-B2D18EBAD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600FF-853C-4338-8446-2428EA6D0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00CE-6C2E-492E-BDA4-D7174A246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AD7C8-88C3-4EA5-B203-C8638D8C5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4FD56-11AD-47BD-84BA-FE1EAB680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030CD-BFC3-4B7B-B7DE-162D0F4CF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97604-E609-43A4-A6CB-76D7CBF8C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40E96-EB9B-477D-A1A7-1FB0C0849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C0BA-6436-4D0D-AFE4-FFE8F0BC3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0163-1BBF-47CF-8588-CFD39045A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CBDA-13F5-4CA5-9056-A50708FC5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AE2A-2259-4142-9BB6-5269636ED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43AB-8B78-40FB-9398-9F8DD8B03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2F71-13A9-4C18-952E-9B77B121C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BAB7-6DFB-438A-A378-A2E65D6A5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9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9900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9900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C1140-48EF-49DB-97FB-B4C554398C96}" type="slidenum">
              <a:rPr b="0" lang="en-US" sz="1400" spc="-1" strike="noStrike">
                <a:solidFill>
                  <a:srgbClr val="99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BFC40-44D0-4478-B8FF-E16FADCABAF0}" type="slidenum">
              <a:rPr b="0" lang="en-US" sz="1400" spc="-1" strike="noStrike">
                <a:solidFill>
                  <a:srgbClr val="99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Prime Companies Inc.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   Broadband Wireless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           World  Forum 2002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43000" y="3809520"/>
            <a:ext cx="723888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February 12-14 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Anaheim, California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3962520" y="2666880"/>
            <a:ext cx="441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ff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5791320" y="2743200"/>
            <a:ext cx="2727360" cy="3278160"/>
            <a:chOff x="5791320" y="2743200"/>
            <a:chExt cx="2727360" cy="3278160"/>
          </a:xfrm>
        </p:grpSpPr>
        <p:pic>
          <p:nvPicPr>
            <p:cNvPr id="112" name="" descr=""/>
            <p:cNvPicPr/>
            <p:nvPr/>
          </p:nvPicPr>
          <p:blipFill>
            <a:blip r:embed="rId1"/>
            <a:stretch/>
          </p:blipFill>
          <p:spPr>
            <a:xfrm>
              <a:off x="5791320" y="2743200"/>
              <a:ext cx="2727360" cy="327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 txBox="1"/>
            <p:nvPr/>
          </p:nvSpPr>
          <p:spPr>
            <a:xfrm>
              <a:off x="5791320" y="2743200"/>
              <a:ext cx="2727360" cy="3278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6699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3101-EA54-4FF7-BE81-771E70676AF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How To Deploy A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Wireless Network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Select manufacturer and proper equip’t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Evaluate throughput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Evaluate technology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What is the growth potential?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Number of customers per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hub/per sector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What services can be provided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now and later?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Focus on equipment pricing-most     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particularly CPE pricing!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2391-5318-4688-8861-5D73A9DFD7B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How To Deploy A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Wireless Network Continued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efine frequencies to be used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LMDS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5.8 GHZ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2.4 GHZ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eployment methods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Define point to point requirement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Define point to multipoint requirements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Define equipment hardware requirements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DA70-C1F8-475F-9780-F9C11F211E5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How To Deploy A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Wireless Network Continued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2133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Preorder required bandwidth to POP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T1’s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S3’s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Use right equipment for right application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Is ATM required?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2FCD-B63F-4722-BD82-70A4E4C4D32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LMDS" descr=""/>
          <p:cNvPicPr/>
          <p:nvPr/>
        </p:nvPicPr>
        <p:blipFill>
          <a:blip r:embed="rId1"/>
          <a:srcRect l="0" t="7245" r="0" b="15396"/>
          <a:stretch/>
        </p:blipFill>
        <p:spPr>
          <a:xfrm>
            <a:off x="1523880" y="380880"/>
            <a:ext cx="6096240" cy="609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8FD3-BEF0-48A8-A6EC-81F6AFB6B29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Road To Success 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After Deployment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360" y="2362320"/>
            <a:ext cx="74674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Create Alliance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Join Chambers of Commerce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Have them (C of C) become your advocate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Acquaint yourself with Economic Development Agencie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Provide live training sessions to the business community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4D93-893E-4A2A-9D0D-4549E623659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Road To Success 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After Deployment Continued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Clearly define the benefits of your services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Educate your prospective customers on what E-commerce means to them and their business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Be conscious that your prospective customers are </a:t>
            </a:r>
            <a:r>
              <a:rPr b="1" i="1" lang="en-US" sz="3200" spc="-1" strike="noStrike">
                <a:solidFill>
                  <a:srgbClr val="9900ff"/>
                </a:solidFill>
                <a:latin typeface="Tahoma"/>
              </a:rPr>
              <a:t>starving but they are not hungry!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B635-0555-4513-9F49-D7F2D5EB231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Road To Success 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After Deployment Continued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What does net speed mean to your customers business?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Show your customer how speed can save them money!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Augment your horizons, serve both business as well as your residential community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Keep in focus that business has a different requirement than the residential customer. 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CC4C-2F52-4A48-BC6F-EC460C0E932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Road To Success 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After Deployment Continued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Consider the fact that in general the residential consumer has minimal impact on bandwidth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Same bandwidth can serve both the business as well as the residential consumer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Business uses net usually 8-5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Residence uses net usually 7-?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2C9A-87BA-413B-A280-A57606EFB4C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How Do I Get Started in These       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Economic Times?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2133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o not accept anything other than reality. Be a realist!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Make extensive use of the pre-subscription process to assure yourself that you have customer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Where and when possible create alliances with manufacturer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Manufacturers are also going through tough times. 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1161-5CA1-41F6-8F74-27E5985D911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How Do I Get Started in These       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Economic Times Continued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Communicate with your congressional representatives. 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Sell them on your plan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Have them support you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Look for governmental low interest loans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Remember today what counts is </a:t>
            </a:r>
            <a:r>
              <a:rPr b="1" i="1" lang="en-US" sz="3200" spc="-1" strike="noStrike">
                <a:solidFill>
                  <a:srgbClr val="9900ff"/>
                </a:solidFill>
                <a:latin typeface="Tahoma"/>
              </a:rPr>
              <a:t>PROFIT</a:t>
            </a: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592C-D3A0-4F8B-8221-2B0517ACB66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Strategies Of Deploying Wireless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Broadband Utilizing LMDS,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Unlicensed Bandwidth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(5.8 GHZ and 2.4 GHZ)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886200"/>
            <a:ext cx="73915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Tahoma"/>
              </a:rPr>
              <a:t>  </a:t>
            </a:r>
            <a:r>
              <a:rPr b="1" lang="en-US" sz="3600" spc="-1" strike="noStrike">
                <a:solidFill>
                  <a:srgbClr val="9900ff"/>
                </a:solidFill>
                <a:latin typeface="Tahoma"/>
              </a:rPr>
              <a:t>Presented By Norbert J. Lima             </a:t>
            </a:r>
            <a:r>
              <a:rPr b="1" lang="en-US" sz="36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9900ff"/>
                </a:solidFill>
                <a:latin typeface="Tahoma"/>
              </a:rPr>
              <a:t>    President and CEO</a:t>
            </a:r>
            <a:endParaRPr b="0" lang="en-US" sz="3600" spc="-1" strike="noStrike">
              <a:solidFill>
                <a:srgbClr val="9900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Tahoma"/>
              </a:rPr>
              <a:t>Prime Companies Incorporated</a:t>
            </a:r>
            <a:endParaRPr b="0" lang="en-US" sz="36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C199-2320-4FFF-B54C-F14C56E5669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History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Prime companies participated in the 1999 LMDS auction in the U.S. 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Prime companies was successful in acquiring 8 LMDS “A” license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Geographically speaking, these licenses range from western Pennsylvania going in a northerly direction all the way into the state of new York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A7F9-104F-4E1F-A160-483E5EA12A6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Goal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2133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Strategic and cost effective deployment of broadband services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Serve all economically feasible markets- both in secondary and tertiary markets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F406-28C5-4FF0-B7B5-8B37F9D42F2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8380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Challenges of Getting Started</a:t>
            </a:r>
            <a:br>
              <a:rPr sz="3600"/>
            </a:b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Have a business plan with reasonable and realistic expectations, and follow your business plan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What services do you intend to deploy?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High speed internet connectivity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Video conferencing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Virtual private networks (VPN’s)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Point to point data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Dial tone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2D8A-07CD-4200-A9DF-542D68A5D0D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7560" y="9140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Challenges Continued…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Which service offering, or package of services do you intend to provide first?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DB49-EC3D-45B3-B3C2-392339676CD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Challenges Continued…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Considerations before defining market deployment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o marketing studies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      where possible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Understand your markets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       and customer needs/want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Obtain pre-subscription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where possible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Is bandwidth available?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Negotiate for bandwidth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75CC-70E5-495A-9780-7C526A51E98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Challenges Continued…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Considerations before defining (con’t)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Consider market makeup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Building size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Avg number of customers per bldg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How many sectors are req. to provide svc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efine price points for services to be 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eployed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Explore terms of rooftop usage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4181-6DA1-452B-A0C4-29FF87B01DA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Challenges Continued…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Which market to deploy first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Consider competition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Consider bandwidth availability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Is DSL available?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Consider location of deployment hub site!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Is radio/hub site readily available?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What manufacturers’ equipment do you use?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Do you have pre-subscriptions?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20CD-76ED-4F3C-A171-15BCD77F6D4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5T18:15:46Z</dcterms:created>
  <dc:creator>sondra</dc:creator>
  <dc:description/>
  <dc:language>en-US</dc:language>
  <cp:lastModifiedBy>sondra</cp:lastModifiedBy>
  <dcterms:modified xsi:type="dcterms:W3CDTF">2002-02-08T17:04:38Z</dcterms:modified>
  <cp:revision>83</cp:revision>
  <dc:subject/>
  <dc:title>PowerPoint Presentation</dc:title>
</cp:coreProperties>
</file>