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696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600" y="386532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7880" y="167616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9960" y="167616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7880" y="386532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9960" y="3865320"/>
            <a:ext cx="247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600" y="386532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696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54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bl_logo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1523880" cy="264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7200" y="65372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ev.02.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11320" y="6413400"/>
            <a:ext cx="5197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FORMATION CONTAINED HEREIN IS OWNED AND COPYRIGHTED BY BROADLINK COMMUNICATIONS, INC. 2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Y REDISTRIBUTION WITHOUT THE WRITTEN CONSENT OF BROADLINK IS A VIOLATION OF COPYRIGHT LA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mailto:tim@broadlink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pic>
          <p:nvPicPr>
            <p:cNvPr id="43" name="Slide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28680" y="5229360"/>
              <a:ext cx="3010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475 Aviation Blvd., Suite 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anta Rosa, CA  954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(877) NO-TEL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www.broadlink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4040" y="6510240"/>
              <a:ext cx="519768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INFORMATION CONTAINED HEREIN IS OWNED AND COPYRIGHTED BY BROADLINK COMMUNICATIONS, INC. 200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Y REDISTRIBUTION WITHOUT THE WRITTEN CONSENT OF BROADLINK IS A VIOLATION OF COPYRIGHT LA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bl_logo_nobkgrd" descr=""/>
            <p:cNvPicPr/>
            <p:nvPr/>
          </p:nvPicPr>
          <p:blipFill>
            <a:blip r:embed="rId2"/>
            <a:stretch/>
          </p:blipFill>
          <p:spPr>
            <a:xfrm>
              <a:off x="1739880" y="663480"/>
              <a:ext cx="559800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457200" y="65372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ev.02.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licensed Wireless Net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itioning from Privat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 Outdoor Public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ebruary 12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0:45 - 11:30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im McAllister, EVP, CTO &amp; Co-fo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LAN Issues w/ Outdoor Range 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905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752480"/>
            <a:ext cx="70866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door Range/RF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LAN equipment made to be used w/in 1,00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K timing windows are exceeded causing wireless transmission contention and collisions (layer2 packet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Scalable and Secure Solutions</a:t>
            </a:r>
            <a:endParaRPr b="0" lang="en-US" sz="3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dress 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age bandwidth (layer 2/3, not radio), rate-limit to meet DSL-like service and prioritize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mplement and manage MPLS as it becomes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age security via hardware addresses and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hance the WEP key management 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verage what works 802.11x, when it works and leave the 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age the customers CPE-based firewall and business-grade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vide ISPs Plug’n’play transparent provis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vide an Open-Access network enabled for multiple IS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mote firmware updates, visibility and use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door Range/RF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e standard-based equipment that can be configured to ignore the ACK timing windows (e.g., Cisco BR350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ecure &amp; Scalable Network Architecture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71" name="Scalable_Network_diagram" descr=""/>
          <p:cNvPicPr/>
          <p:nvPr/>
        </p:nvPicPr>
        <p:blipFill>
          <a:blip r:embed="rId1"/>
          <a:stretch/>
        </p:blipFill>
        <p:spPr>
          <a:xfrm>
            <a:off x="1770120" y="1447920"/>
            <a:ext cx="56214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Real World Results</a:t>
            </a:r>
            <a:endParaRPr b="0" lang="en-US" sz="3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ll over 200 remote stations being served via 1 BR352 (sec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t throughput over 2.8 Mbps – downstream &amp; 1.7 Mbps – up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ve continuous AirSnort and WEP-Hack testing to validate security of 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SP partners (ELNK, Sonic.net, etc.) using tools for tier 1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 multiple ISPs in each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door Range/RF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ending on terrain achieving consistent connections between 1.5 miles and 4 m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arly testing of CPE-based, low-cost, high-speed 802.11 repeater (micro-cell coverage) to mitigate line-of-sight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9067680" cy="6860520"/>
            <a:chOff x="0" y="0"/>
            <a:chExt cx="9067680" cy="6860520"/>
          </a:xfrm>
        </p:grpSpPr>
        <p:pic>
          <p:nvPicPr>
            <p:cNvPr id="75" name="Slide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067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81360" y="5229360"/>
              <a:ext cx="342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53080" y="6497640"/>
              <a:ext cx="480600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FIDENTIAL / PROPRIETARY INFORMATION NOT TO  BE DISSEMINATED OR DISCUSSE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ITH ANY OTHER  PARTIES; WITHOUT THE PRIOR  WRITTEN CONSENT OF BROADLI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bl_logo_nobkgrd" descr=""/>
            <p:cNvPicPr/>
            <p:nvPr/>
          </p:nvPicPr>
          <p:blipFill>
            <a:blip r:embed="rId2"/>
            <a:stretch/>
          </p:blipFill>
          <p:spPr>
            <a:xfrm>
              <a:off x="1725480" y="663480"/>
              <a:ext cx="555156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457200" y="65372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Rev.02.12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act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im McAllister, EVP, CTO &amp; Co-fo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  <a:hlinkClick r:id="rId3"/>
              </a:rPr>
              <a:t>tim@broadlin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Relevant Background</a:t>
            </a: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king on WBA solution since 1994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ployed WBA network in early 1996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an into several management, security &amp; capacity issues ear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eded investment in wireless broadband equipment company 199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w-cost CPE uses 802.11 cards &amp; BLNK softwa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esently wholesaling WBA to EarthLin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876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anding into new markets (2Q’02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tural Migr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se of low-cost WLAN equipment in Public broadband access network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jor concer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lutions available toda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mitations of available solu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lutions that wor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Natural Migration of WLAN to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Broadband WAN</a:t>
            </a:r>
            <a:endParaRPr b="0" lang="en-US" sz="3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ailability of cable and DSL still limited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nt-up demand for broadband acces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west cost solu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ice dropped over 300% in two year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ndards-based platform works (802.11b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rking technology supported standar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jor chip manufacturers and developers increased production and volume shippe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Major Concerns w/ WLAN in Outdoor Public Wireless Broadband Access</a:t>
            </a:r>
            <a:endParaRPr b="0" lang="en-US" sz="32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LANs are Ethernet-based (Ad Hoc networking); QoS-limited; Capacity Limit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AN – “Listen, before talk”, prone to eavesdropping and theft of servic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P – Compromised by UC Berkeley &amp; University of Marylan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02.11x standard not flexible for open-access provisionin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d-User Customer premise security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ug’n’play transparent provisioning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-Access enabled for multiple ISPs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mote firmware updates, visibility and user manageme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door Range/RF propag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LAN equipment made to be used w/in 1K’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LAN’s Issues with Scalability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905120"/>
            <a:ext cx="739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er-to-peer networking “Ad Ho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oS-Limited – “listen, before talking” Ethernet protocol w/ no mechanism for priori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pacity Limited – Ethernet protocol inefficiencies significantly limit capacity (11 Mbps to 4-5 Mbps 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LAN’s Issues with Security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600200"/>
            <a:ext cx="7162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sten, before talk” WLAN Etherne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hernet networks (Cable modem and wireless LAN networks) are “listen, before talk” protocol-ba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f your neighbor is “listening” while your “talking”, then eavesdropping can take plac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P Encryption (40- &amp; 128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cumented hack developed by UC Berkeley &amp; University of Mary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ft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P and MAC address spoo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ke cell phone cloning only 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plicate IPs will cause network confusion and result in loss 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d-User Customer premise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rewall &amp; secured bridged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02.1x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flexible for open-access provisio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Issues w/ Off-the-Shelf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Security Solutions 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ute all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t scalable - ISPs do not use routing to segment customer traffic in local access networks (use of PPPoE, ATM/PVCs, Frame relay, Bridged is preval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lement WEP (40- or 128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lementation has been fully exploited by Cal-Berkeley &amp; University of Maryland studies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lement VPN (IPSec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fficult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uses large overhead that affects the user’s perform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lement User Authentication via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andards-based support waiting for latest release of 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ill not flexible for Open-Access of publ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WLAN Issues w/ Management </a:t>
            </a:r>
            <a:endParaRPr b="0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6765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ug’n’play transparent provisio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n-Access enabled for multiple ISP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mote firmware updates, visibility and user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7:17:34Z</dcterms:created>
  <dc:creator>FSC</dc:creator>
  <dc:description/>
  <dc:language>en-US</dc:language>
  <cp:lastModifiedBy>Karen Crain</cp:lastModifiedBy>
  <cp:lastPrinted>2000-12-14T18:32:27Z</cp:lastPrinted>
  <dcterms:modified xsi:type="dcterms:W3CDTF">2002-02-21T20:51:33Z</dcterms:modified>
  <cp:revision>1192</cp:revision>
  <dc:subject/>
  <dc:title>Transaction</dc:title>
</cp:coreProperties>
</file>