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8AB5-BE31-4D2E-A348-5E416F1C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DA3E-9B67-4CBC-BB4F-871ED885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8946-2B08-4C11-9883-10CA0BFA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280A-0562-4786-B297-6C6DC0CF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CF4D-02CC-4A3F-990D-38465DC2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830E-E797-4DE3-AE55-378DF5DC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4228-B95D-4968-BE79-9A4FC289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D4E6-8527-4BA2-9AEE-58F67F9A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7D6E-8372-4788-8E13-508B1804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BB9C-2811-4A4C-9ED8-FF31A8E0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0B00-0852-4113-AA16-24146782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4C1-B1D3-42C2-8ED7-F20C4531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D15B-FC8E-4709-BDAC-6FDCB7D9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E6CF-D7E3-4848-9BDA-DA4817A4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EAB1-A75D-4EE0-93CA-D14F85F4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73D9-F316-4097-A175-53A8E3A2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9758-7A87-4E7C-8290-376511C6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159D-F785-462F-A5E0-B6647A48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60CB-F57D-4E52-95BC-B5815ABF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0BA4-837C-4C36-9D62-B13F72E0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F8EB-6E50-464C-99A9-47CD7D31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B337-9D70-412A-A0C4-78463F4D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80C7-3BE7-4E2E-A7F1-5D32A4FE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D9C3-55CC-48BE-BD28-C48BDB2B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6058080" y="6400800"/>
            <a:ext cx="308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81B9-595D-45B9-B638-53DA121BAE1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5640-A817-4347-B28E-F28CC452129B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Next Generation WLAN Cli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ram Solom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ce Presid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anced Communications Product Grou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CTEL, In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DR / SR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838080" y="2819520"/>
            <a:ext cx="3353040" cy="3352680"/>
            <a:chOff x="838080" y="2819520"/>
            <a:chExt cx="3353040" cy="3352680"/>
          </a:xfrm>
        </p:grpSpPr>
        <p:sp>
          <p:nvSpPr>
            <p:cNvPr id="364" name=""/>
            <p:cNvSpPr/>
            <p:nvPr/>
          </p:nvSpPr>
          <p:spPr>
            <a:xfrm>
              <a:off x="83808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2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0936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93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808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936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93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08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0936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93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808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0936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093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808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0936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093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808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0936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093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936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093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808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936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093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936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093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0936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93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808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936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093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808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0936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093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2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6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6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0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5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5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9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9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3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7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7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2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2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6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6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07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07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5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5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9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9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2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2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6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6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0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0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5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5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9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3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3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7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7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2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6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6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07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407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5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5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9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9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4856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485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4856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485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4856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485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4856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485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4856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485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4856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485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4856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485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4856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485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4856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485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4856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485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4856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485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4856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485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0936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093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0936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093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808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0936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093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08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0936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093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808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0936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93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808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0936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093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0936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093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0936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93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35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35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7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7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2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2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63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63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0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0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49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49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91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91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34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34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4856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485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4856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485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4856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85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4856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485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4856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485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4856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85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4856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485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4856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485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35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35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7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7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2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2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63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63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0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0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49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49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91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91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34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34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8064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8064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9448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105520" y="2819520"/>
            <a:ext cx="3352680" cy="3352680"/>
            <a:chOff x="5105520" y="2819520"/>
            <a:chExt cx="3352680" cy="3352680"/>
          </a:xfrm>
        </p:grpSpPr>
        <p:sp>
          <p:nvSpPr>
            <p:cNvPr id="548" name=""/>
            <p:cNvSpPr/>
            <p:nvPr/>
          </p:nvSpPr>
          <p:spPr>
            <a:xfrm>
              <a:off x="510552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906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7680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17680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0552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7680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7680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0552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7680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7680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10552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7680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7680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0552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7680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7680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0552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7680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7680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0552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7680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7680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7680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7680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7680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7680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0552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7680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7680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0552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7680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7680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0552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7680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7680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906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53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3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7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7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81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1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6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6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0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0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4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24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38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8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3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3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7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7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17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17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6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6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906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06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3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3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7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7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1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1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6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6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0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0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4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4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38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8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3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3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7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7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17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17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6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6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1564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1564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31564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1564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1564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1564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31564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1564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1564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1564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31564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31564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31564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31564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1564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31564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31564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1564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1564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1564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1564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1564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1564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1564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0552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7680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7680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0552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7680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7680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0552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7680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7680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0552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7680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7680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0552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7680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7680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0552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7680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7680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0552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7680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7680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0552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7680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7680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0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0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245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45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8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8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3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3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734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734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1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1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588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588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1014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014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1564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1564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1564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1564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31564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31564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31564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31564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31564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31564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31564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31564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1564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1564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1564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31564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0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45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45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8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8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3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6734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6734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81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81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588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9588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1014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014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4808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4808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6192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2743200" y="4343400"/>
            <a:ext cx="990720" cy="1295280"/>
          </a:xfrm>
          <a:prstGeom prst="rect">
            <a:avLst/>
          </a:prstGeom>
          <a:solidFill>
            <a:srgbClr val="ff995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aseb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S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47920" y="4343400"/>
            <a:ext cx="990360" cy="1295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IS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47920" y="3581280"/>
            <a:ext cx="2286000" cy="457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042280" y="3032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688720" y="3048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dio Front E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47200" y="40989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4 – 5.8 G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267080" y="3886200"/>
            <a:ext cx="762120" cy="11430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947200" y="4632480"/>
            <a:ext cx="197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8 – 5.8 GHz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83760" y="23623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DR - R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657960" y="61722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RR – IF / B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4038120" y="32763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 rot="16200000">
            <a:off x="4038120" y="53337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5960 h 304920"/>
              <a:gd name="textAreaBottom" fmla="*/ 2286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licensed Bands, Interfer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“unlicensed bands?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CC’s NPRM 99-23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urces of Inter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u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technolog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can be do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al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le baseband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er Experi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can channel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SI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P Addres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mpatibilit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P+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matic service discovery / smart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ed to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l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j0315559" descr=""/>
          <p:cNvPicPr/>
          <p:nvPr/>
        </p:nvPicPr>
        <p:blipFill>
          <a:blip r:embed="rId1"/>
          <a:stretch/>
        </p:blipFill>
        <p:spPr>
          <a:xfrm>
            <a:off x="5105520" y="21906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ble standar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ulti-mode telepho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mple oper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91440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ing bands (a, b, 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 multiple environ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2428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lti-mode, serv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scovery &amp;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91440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2428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114800" y="2209680"/>
            <a:ext cx="1295280" cy="4572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liferating Stand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802.11e, f, h, i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72428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pgradeable (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ftware, less hardwar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rowing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mproved sig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cessing, 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1440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lica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72428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amless u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perience, zero confi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" y="28195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8600" y="380988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" y="480060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28600" y="57913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aming – cellular /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mless user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cost of deployment / TCO – enterpr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eband RF front end (1.8GHz to 5.9GHz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ftware Defined Ra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962520" y="2057400"/>
                <a:ext cx="10922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3506760" y="4191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me = Mon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81760" y="4952880"/>
            <a:ext cx="28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nowledge = Pow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975120" y="3124080"/>
                <a:ext cx="10666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781360" y="5562720"/>
                <a:ext cx="34290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ne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or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nowledg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509480" y="2286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25320" y="3352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5320" y="4191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532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4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5320" y="5829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do marketers make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money than enginee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Generation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Frequencies, PHY, and 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Security, QoS, Upgrade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Unlicensed bands and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. User Exper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WLA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C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bility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ting W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ail, 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rvice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i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operabi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aml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ver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urity / Priva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438280" y="1981080"/>
          <a:ext cx="655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655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4191120" y="649116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Source: In-Stat 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Value to the different buy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066680" y="2133720"/>
          <a:ext cx="7772400" cy="4314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User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verage / Mo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IT Manager (Buy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wer TC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S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ture Standard Guarante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opera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cur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C OEM (Direct Custom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sign-in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tal Cost of Ownershi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pport Level Requir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sumer (non-Enterprise Us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ference Immun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802.11 Family of Standar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447920"/>
            <a:ext cx="1066680" cy="51051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ra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-2 Mbps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S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H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1447920"/>
            <a:ext cx="6248520" cy="12952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bove 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2743200"/>
            <a:ext cx="6248520" cy="1295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 Layer (applies to all PHY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4038480"/>
            <a:ext cx="6248520" cy="1295640"/>
          </a:xfrm>
          <a:prstGeom prst="rect">
            <a:avLst/>
          </a:prstGeom>
          <a:solidFill>
            <a:srgbClr val="ff9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09680" y="5334120"/>
            <a:ext cx="6248520" cy="1295280"/>
          </a:xfrm>
          <a:prstGeom prst="rect">
            <a:avLst/>
          </a:pr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19051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12408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44197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571500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9880" y="17524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APP - Acces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int Roam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gulatio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4120" y="3048120"/>
            <a:ext cx="144756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hanc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5.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existenc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988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Mbps CC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1500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Mbps PBCC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56386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4Mbps 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294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j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perLAN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19920" y="17524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943240" y="4724280"/>
            <a:ext cx="11430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943240" y="4723920"/>
            <a:ext cx="10666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4191120"/>
            <a:ext cx="6095880" cy="2590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7698240" y="51804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requencies, PHY, and 802.11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“hot-spo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low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consum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20 log(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ferenc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943600" y="4724280"/>
            <a:ext cx="2895480" cy="1752840"/>
            <a:chOff x="5943600" y="4724280"/>
            <a:chExt cx="2895480" cy="1752840"/>
          </a:xfrm>
        </p:grpSpPr>
        <p:sp>
          <p:nvSpPr>
            <p:cNvPr id="340" name=""/>
            <p:cNvSpPr/>
            <p:nvPr/>
          </p:nvSpPr>
          <p:spPr>
            <a:xfrm>
              <a:off x="5943600" y="4724280"/>
              <a:ext cx="2895480" cy="1752840"/>
            </a:xfrm>
            <a:prstGeom prst="ellipse">
              <a:avLst/>
            </a:prstGeom>
            <a:solidFill>
              <a:srgbClr val="ffc8a3"/>
            </a:solidFill>
            <a:ln w="9360">
              <a:solidFill>
                <a:srgbClr val="ffc8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24480" y="4952880"/>
              <a:ext cx="1219320" cy="609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terpris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00800" y="5715000"/>
              <a:ext cx="1218960" cy="6094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siden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43800" y="5334120"/>
              <a:ext cx="1218960" cy="6094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ot Spo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23520" y="2146320"/>
            <a:ext cx="2751480" cy="2502720"/>
            <a:chOff x="6023520" y="2146320"/>
            <a:chExt cx="2751480" cy="2502720"/>
          </a:xfrm>
        </p:grpSpPr>
        <p:sp>
          <p:nvSpPr>
            <p:cNvPr id="345" name=""/>
            <p:cNvSpPr/>
            <p:nvPr/>
          </p:nvSpPr>
          <p:spPr>
            <a:xfrm>
              <a:off x="6248520" y="4311720"/>
              <a:ext cx="24382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248520" y="2482920"/>
              <a:ext cx="0" cy="1828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48520" y="2787840"/>
              <a:ext cx="990360" cy="1523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8520" y="3778560"/>
              <a:ext cx="2057400" cy="5331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48520" y="2711520"/>
              <a:ext cx="838080" cy="121932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86600" y="3930840"/>
              <a:ext cx="1371600" cy="38088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50520" y="389916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802.11b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26280" y="255924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802.11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7200" y="347364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53"/>
                  </a:solidFill>
                  <a:latin typeface="Arial"/>
                </a:rPr>
                <a:t>Dual Mod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23520" y="2146320"/>
              <a:ext cx="13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hroughpu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431172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ulti-Mode Clie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64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le environment – cover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er risk of standard uncertai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 discovery / smar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 / b / g (baseband/a, radio/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ward compatibility – Wi-F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ISS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ecurity, QoS, Upgradeabilit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i –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P, WEP2, A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e – Quality of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media / conver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 evolution is an adoption inhibitor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ware vs. Soft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ility vs. C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ore’s la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0:42:06Z</dcterms:created>
  <dc:creator>Yoram Solomon</dc:creator>
  <dc:description/>
  <dc:language>en-US</dc:language>
  <cp:lastModifiedBy>Yoram Solomon</cp:lastModifiedBy>
  <dcterms:modified xsi:type="dcterms:W3CDTF">2002-02-12T23:49:28Z</dcterms:modified>
  <cp:revision>56</cp:revision>
  <dc:subject/>
  <dc:title>PowerPoint Presentation</dc:title>
</cp:coreProperties>
</file>