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C74D-9A74-4DB1-8858-A6B3411B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8106-22D2-4144-9D3C-E8B19715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FBEB-413E-402B-8228-2A4583D9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B8D9-6987-4931-BBFC-A9F50D69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C301-4BBA-495A-8413-2D435AD0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CEC9-0139-4A46-97C8-CD088742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03B3-4215-430C-823E-48CCCBE2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E195-15DC-4F86-8668-43A4FFAD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7240" y="609120"/>
            <a:ext cx="776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FBFE-FFB8-48EE-928E-C3A2F048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449B-D27F-4486-86C7-6C7AA3D1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E03C-E13D-4DC2-A0C3-9121FA90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CD1C-F303-4B4D-A4EF-ED4CCC6F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746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6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0360" indent="-2192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310A4971-47B1-49EF-9ADA-B7295CEC9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ew%20Logo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1081080" cy="53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73280" y="662004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2056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400" y="2043000"/>
            <a:ext cx="776448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ICENSED MULTIPOI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ategies for Reducing Interference by Effectiv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aluating and Deploying Directional Anten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9080" y="4572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 Jim Bry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1676520"/>
            <a:ext cx="81295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owest possible signal power at the receiver will need to be hig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 actual noise floor at the base station is greater tha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28292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138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51560" y="463068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4720" y="3343320"/>
            <a:ext cx="131760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28320" y="320040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7160" y="462744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22560" y="4168800"/>
            <a:ext cx="0" cy="250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84880" y="462600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00560" y="41655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1040" y="39528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10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22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00560" y="39402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98560" y="5791320"/>
            <a:ext cx="3701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70 dBm + (5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65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607160" y="2520720"/>
            <a:ext cx="290520" cy="28548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48640" y="2867040"/>
            <a:ext cx="0" cy="74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934320" y="3398760"/>
          <a:ext cx="16430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39876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435640" y="35370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54360" y="3535200"/>
            <a:ext cx="181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51640" y="3357720"/>
            <a:ext cx="13960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“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41560" y="3595680"/>
            <a:ext cx="695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49320" y="2300400"/>
            <a:ext cx="10425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371600"/>
            <a:ext cx="86868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minimum value f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d signal power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t the base station, the radius of your cell can be calculated by using the standard link budget form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801720"/>
            <a:ext cx="2895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VERAGE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89680" y="2338560"/>
            <a:ext cx="175284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8320" y="3875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40280" y="39006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em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8900000">
            <a:off x="1250640" y="2495160"/>
            <a:ext cx="290520" cy="2858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92120" y="2841480"/>
            <a:ext cx="0" cy="74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77800" y="3373560"/>
          <a:ext cx="1643040" cy="5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7800" y="3373560"/>
                    <a:ext cx="164304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53840" y="3570120"/>
            <a:ext cx="1365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85240" y="2274840"/>
            <a:ext cx="105804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23130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06360" y="4648320"/>
            <a:ext cx="674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900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0084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38960" y="495792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640" y="4981680"/>
            <a:ext cx="140976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97960" y="48132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55760" y="48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4280" y="5943600"/>
            <a:ext cx="7250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 dBm - (-65 dBm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 dB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ains and losses in the signal between the two ra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97360" y="873000"/>
            <a:ext cx="4936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FERENCE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43320" y="3786120"/>
            <a:ext cx="1681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43320" y="4309920"/>
            <a:ext cx="2156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43320" y="3846600"/>
            <a:ext cx="2156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33360" y="5286240"/>
            <a:ext cx="253872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32120" y="5500800"/>
            <a:ext cx="5792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29160" y="2489040"/>
            <a:ext cx="144360" cy="357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460680" y="2600280"/>
            <a:ext cx="1461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60680" y="260028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26000" y="1779480"/>
            <a:ext cx="144720" cy="357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357160" y="1890720"/>
            <a:ext cx="1443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57880" y="1890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782880" y="2065320"/>
            <a:ext cx="1670040" cy="59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35400" y="1600200"/>
            <a:ext cx="246852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50520" y="237816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5960" y="267192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-30240" bIns="-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2136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31440" y="211284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21240" y="2049480"/>
            <a:ext cx="229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77640" y="3019320"/>
            <a:ext cx="107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73800" y="3786120"/>
            <a:ext cx="1699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3800" y="4309920"/>
            <a:ext cx="2192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73800" y="384660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65640" y="5286240"/>
            <a:ext cx="254016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79920" y="5500800"/>
            <a:ext cx="57960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6116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120" y="4114800"/>
            <a:ext cx="3771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7280" y="378792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46560" y="4087800"/>
            <a:ext cx="17773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as are 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95920" y="372888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2200" y="3733920"/>
            <a:ext cx="15228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290988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2320" y="3024360"/>
            <a:ext cx="15264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0800000">
            <a:off x="4794120" y="2986200"/>
            <a:ext cx="243864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7086240" y="3003120"/>
            <a:ext cx="1522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340524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00480" y="3367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72160" y="337356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61400" y="4591080"/>
            <a:ext cx="2594520" cy="1807560"/>
            <a:chOff x="1661400" y="4591080"/>
            <a:chExt cx="2594520" cy="1807560"/>
          </a:xfrm>
        </p:grpSpPr>
        <p:sp>
          <p:nvSpPr>
            <p:cNvPr id="310" name=""/>
            <p:cNvSpPr/>
            <p:nvPr/>
          </p:nvSpPr>
          <p:spPr>
            <a:xfrm rot="1428000">
              <a:off x="1739160" y="5044680"/>
              <a:ext cx="243864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428000">
              <a:off x="1812600" y="4691520"/>
              <a:ext cx="152280" cy="761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943600" y="5067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752720" y="4667040"/>
            <a:ext cx="2596680" cy="1597680"/>
            <a:chOff x="4752720" y="4667040"/>
            <a:chExt cx="2596680" cy="1597680"/>
          </a:xfrm>
        </p:grpSpPr>
        <p:sp>
          <p:nvSpPr>
            <p:cNvPr id="314" name=""/>
            <p:cNvSpPr/>
            <p:nvPr/>
          </p:nvSpPr>
          <p:spPr>
            <a:xfrm rot="9740400">
              <a:off x="4831920" y="5015520"/>
              <a:ext cx="2438280" cy="90036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9740400">
              <a:off x="7054560" y="4686840"/>
              <a:ext cx="15264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819520" y="50673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51055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2819520"/>
            <a:ext cx="6019560" cy="1218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4648320"/>
            <a:ext cx="601956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50000" y="2558880"/>
            <a:ext cx="31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o Ti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levation Pattern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60080" y="43941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With Ti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19360" y="37987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20800" y="60199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91760" y="380988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93200" y="601992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332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864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0256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9752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5067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3152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324200" y="5057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928800" y="2539440"/>
            <a:ext cx="2562120" cy="1996560"/>
            <a:chOff x="928800" y="2539440"/>
            <a:chExt cx="2562120" cy="1996560"/>
          </a:xfrm>
        </p:grpSpPr>
        <p:sp>
          <p:nvSpPr>
            <p:cNvPr id="336" name=""/>
            <p:cNvSpPr/>
            <p:nvPr/>
          </p:nvSpPr>
          <p:spPr>
            <a:xfrm rot="1795800">
              <a:off x="1036440" y="3200760"/>
              <a:ext cx="609120" cy="33012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48" y="8"/>
                  </a:moveTo>
                  <a:cubicBezTo>
                    <a:pt x="96" y="16"/>
                    <a:pt x="288" y="72"/>
                    <a:pt x="336" y="104"/>
                  </a:cubicBezTo>
                  <a:cubicBezTo>
                    <a:pt x="384" y="136"/>
                    <a:pt x="384" y="208"/>
                    <a:pt x="336" y="200"/>
                  </a:cubicBezTo>
                  <a:cubicBezTo>
                    <a:pt x="288" y="192"/>
                    <a:pt x="96" y="88"/>
                    <a:pt x="48" y="56"/>
                  </a:cubicBezTo>
                  <a:cubicBezTo>
                    <a:pt x="0" y="24"/>
                    <a:pt x="0" y="0"/>
                    <a:pt x="48" y="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795800">
              <a:off x="990360" y="3087360"/>
              <a:ext cx="243828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155600" y="3135240"/>
            <a:ext cx="609840" cy="330120"/>
          </a:xfrm>
          <a:custGeom>
            <a:avLst/>
            <a:gdLst/>
            <a:ahLst/>
            <a:rect l="l" t="t" r="r" b="b"/>
            <a:pathLst>
              <a:path w="384" h="208">
                <a:moveTo>
                  <a:pt x="48" y="8"/>
                </a:moveTo>
                <a:cubicBezTo>
                  <a:pt x="96" y="16"/>
                  <a:pt x="288" y="72"/>
                  <a:pt x="336" y="104"/>
                </a:cubicBezTo>
                <a:cubicBezTo>
                  <a:pt x="384" y="136"/>
                  <a:pt x="384" y="208"/>
                  <a:pt x="336" y="200"/>
                </a:cubicBezTo>
                <a:cubicBezTo>
                  <a:pt x="288" y="192"/>
                  <a:pt x="96" y="88"/>
                  <a:pt x="48" y="56"/>
                </a:cubicBezTo>
                <a:cubicBezTo>
                  <a:pt x="0" y="24"/>
                  <a:pt x="0" y="0"/>
                  <a:pt x="48" y="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95600" y="338940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79640" y="256536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7640" y="250200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2882880"/>
            <a:ext cx="7596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2971800"/>
            <a:ext cx="152280" cy="76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81000" y="3133800"/>
            <a:ext cx="152640" cy="75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6000" y="4876920"/>
            <a:ext cx="8686800" cy="1657080"/>
          </a:xfrm>
          <a:custGeom>
            <a:avLst/>
            <a:gdLst/>
            <a:ahLst/>
            <a:rect l="l" t="t" r="r" b="b"/>
            <a:pathLst>
              <a:path w="5472" h="1044">
                <a:moveTo>
                  <a:pt x="0" y="0"/>
                </a:moveTo>
                <a:cubicBezTo>
                  <a:pt x="93" y="31"/>
                  <a:pt x="273" y="21"/>
                  <a:pt x="352" y="24"/>
                </a:cubicBezTo>
                <a:cubicBezTo>
                  <a:pt x="509" y="76"/>
                  <a:pt x="875" y="47"/>
                  <a:pt x="912" y="48"/>
                </a:cubicBezTo>
                <a:cubicBezTo>
                  <a:pt x="920" y="56"/>
                  <a:pt x="930" y="63"/>
                  <a:pt x="936" y="72"/>
                </a:cubicBezTo>
                <a:cubicBezTo>
                  <a:pt x="941" y="79"/>
                  <a:pt x="939" y="89"/>
                  <a:pt x="944" y="96"/>
                </a:cubicBezTo>
                <a:cubicBezTo>
                  <a:pt x="988" y="151"/>
                  <a:pt x="1045" y="194"/>
                  <a:pt x="1112" y="216"/>
                </a:cubicBezTo>
                <a:cubicBezTo>
                  <a:pt x="1117" y="232"/>
                  <a:pt x="1116" y="252"/>
                  <a:pt x="1128" y="264"/>
                </a:cubicBezTo>
                <a:cubicBezTo>
                  <a:pt x="1221" y="357"/>
                  <a:pt x="1146" y="224"/>
                  <a:pt x="1192" y="304"/>
                </a:cubicBezTo>
                <a:cubicBezTo>
                  <a:pt x="1212" y="340"/>
                  <a:pt x="1213" y="381"/>
                  <a:pt x="1232" y="416"/>
                </a:cubicBezTo>
                <a:cubicBezTo>
                  <a:pt x="1246" y="441"/>
                  <a:pt x="1270" y="472"/>
                  <a:pt x="1288" y="496"/>
                </a:cubicBezTo>
                <a:cubicBezTo>
                  <a:pt x="1304" y="543"/>
                  <a:pt x="1285" y="498"/>
                  <a:pt x="1328" y="552"/>
                </a:cubicBezTo>
                <a:cubicBezTo>
                  <a:pt x="1355" y="585"/>
                  <a:pt x="1367" y="629"/>
                  <a:pt x="1400" y="656"/>
                </a:cubicBezTo>
                <a:cubicBezTo>
                  <a:pt x="1433" y="684"/>
                  <a:pt x="1524" y="697"/>
                  <a:pt x="1568" y="704"/>
                </a:cubicBezTo>
                <a:cubicBezTo>
                  <a:pt x="1686" y="783"/>
                  <a:pt x="1787" y="919"/>
                  <a:pt x="1936" y="944"/>
                </a:cubicBezTo>
                <a:cubicBezTo>
                  <a:pt x="2011" y="957"/>
                  <a:pt x="2082" y="956"/>
                  <a:pt x="2160" y="960"/>
                </a:cubicBezTo>
                <a:cubicBezTo>
                  <a:pt x="2251" y="971"/>
                  <a:pt x="2331" y="986"/>
                  <a:pt x="2424" y="992"/>
                </a:cubicBezTo>
                <a:cubicBezTo>
                  <a:pt x="2682" y="1044"/>
                  <a:pt x="3385" y="1015"/>
                  <a:pt x="3480" y="1016"/>
                </a:cubicBezTo>
                <a:cubicBezTo>
                  <a:pt x="4659" y="1027"/>
                  <a:pt x="4246" y="1024"/>
                  <a:pt x="5472" y="10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61722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864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340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864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340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8100000">
            <a:off x="5942880" y="6019920"/>
            <a:ext cx="304920" cy="304560"/>
          </a:xfrm>
          <a:prstGeom prst="rtTriangl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3073320"/>
            <a:ext cx="4724280" cy="32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36520" y="2884320"/>
            <a:ext cx="77760" cy="392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59200" y="42670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52840" y="28195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Tilt (Shown in Bl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31520" y="3824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After Tilt (Shown in Gr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63040" y="873000"/>
            <a:ext cx="4284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NTING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88040" y="2143080"/>
            <a:ext cx="144720" cy="192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26120" y="267984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26120" y="221472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78440" y="4071960"/>
            <a:ext cx="2540160" cy="221472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92720" y="42861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73960" y="42861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92720" y="52275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73960" y="52275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928920" y="1571400"/>
            <a:ext cx="21924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169040" y="1568160"/>
            <a:ext cx="200520" cy="577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0" y="17859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7319520" y="178596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161120" y="15602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5659560" y="3489120"/>
            <a:ext cx="21888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899320" y="3485520"/>
            <a:ext cx="198000" cy="579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87920" y="37036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46560" y="37036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888160" y="347652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28800" y="2490840"/>
            <a:ext cx="35719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ounting an antenna on an object such as a pole and/or a building, be sure to consider movement of the object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2240" y="4572000"/>
            <a:ext cx="341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 Vertical Beam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15920" y="4572000"/>
            <a:ext cx="326556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93200" y="1841400"/>
            <a:ext cx="841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02680" y="1285920"/>
            <a:ext cx="13032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30680" y="3098880"/>
            <a:ext cx="806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26120" y="2571840"/>
            <a:ext cx="1306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67360" y="210492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91080" y="1087560"/>
            <a:ext cx="5401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50720" y="2801880"/>
            <a:ext cx="2842200" cy="24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nt-to-Back Rat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vation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per L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27200" y="1801800"/>
            <a:ext cx="60260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electrical parameters will chan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an antenna’s designed bandwidt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2071800"/>
            <a:ext cx="83059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the Ramifications of Various Resolutions on Patter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ll Points on an Azimuth and Elevation Pat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Proper Isolation Between Antennas at Base S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 Worst Case Link Bud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Worst Case Interference from Neighboring Anten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ilt When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into Account Movement of the Object(s) the Antennas are Mounted 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he Antenna Parameters Change Over the Bandwid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71880" y="2367000"/>
            <a:ext cx="5219640" cy="17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vation and Azimuth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Station Deployment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Budget and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77800" y="2389320"/>
          <a:ext cx="254016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2389320"/>
                    <a:ext cx="254016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292560" y="2389320"/>
          <a:ext cx="254484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256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989680" y="238932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8968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65360" y="586908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711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65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54920" y="1144440"/>
            <a:ext cx="5828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CH ANTENNA WOULD YOU CHOOS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7520" y="2460600"/>
          <a:ext cx="253980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520" y="2460600"/>
                    <a:ext cx="253980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303720" y="2460600"/>
          <a:ext cx="254448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03720" y="2460600"/>
                    <a:ext cx="254448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000840" y="246060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00840" y="246060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884160" y="59403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740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9424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56160" y="1233360"/>
            <a:ext cx="5441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ARE FROM THE SAME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4120" y="2151000"/>
          <a:ext cx="838044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2151000"/>
                    <a:ext cx="83804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156320" y="990720"/>
            <a:ext cx="68202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ER EVALUATION OF PATTERNS REQU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 dB OF PATTERN RE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086240" y="3416400"/>
            <a:ext cx="520200" cy="344880"/>
            <a:chOff x="7086240" y="3416400"/>
            <a:chExt cx="520200" cy="344880"/>
          </a:xfrm>
        </p:grpSpPr>
        <p:sp>
          <p:nvSpPr>
            <p:cNvPr id="88" name=""/>
            <p:cNvSpPr/>
            <p:nvPr/>
          </p:nvSpPr>
          <p:spPr>
            <a:xfrm>
              <a:off x="7183440" y="341640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6240" y="3430440"/>
              <a:ext cx="52020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895640" y="6248520"/>
            <a:ext cx="468360" cy="344880"/>
            <a:chOff x="4895640" y="6248520"/>
            <a:chExt cx="468360" cy="344880"/>
          </a:xfrm>
        </p:grpSpPr>
        <p:sp>
          <p:nvSpPr>
            <p:cNvPr id="91" name=""/>
            <p:cNvSpPr/>
            <p:nvPr/>
          </p:nvSpPr>
          <p:spPr>
            <a:xfrm>
              <a:off x="4964760" y="6248520"/>
              <a:ext cx="3063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95640" y="626256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22880" y="5884920"/>
            <a:ext cx="468360" cy="345240"/>
            <a:chOff x="5222880" y="5884920"/>
            <a:chExt cx="468360" cy="345240"/>
          </a:xfrm>
        </p:grpSpPr>
        <p:sp>
          <p:nvSpPr>
            <p:cNvPr id="94" name=""/>
            <p:cNvSpPr/>
            <p:nvPr/>
          </p:nvSpPr>
          <p:spPr>
            <a:xfrm>
              <a:off x="5292360" y="5884920"/>
              <a:ext cx="30348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22880" y="589932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578560" y="5472000"/>
            <a:ext cx="468360" cy="344880"/>
            <a:chOff x="5578560" y="5472000"/>
            <a:chExt cx="468360" cy="344880"/>
          </a:xfrm>
        </p:grpSpPr>
        <p:sp>
          <p:nvSpPr>
            <p:cNvPr id="97" name=""/>
            <p:cNvSpPr/>
            <p:nvPr/>
          </p:nvSpPr>
          <p:spPr>
            <a:xfrm>
              <a:off x="5649840" y="5472000"/>
              <a:ext cx="304920" cy="30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78560" y="548604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919840" y="5014800"/>
            <a:ext cx="355680" cy="344880"/>
            <a:chOff x="5919840" y="5014800"/>
            <a:chExt cx="355680" cy="344880"/>
          </a:xfrm>
        </p:grpSpPr>
        <p:sp>
          <p:nvSpPr>
            <p:cNvPr id="100" name=""/>
            <p:cNvSpPr/>
            <p:nvPr/>
          </p:nvSpPr>
          <p:spPr>
            <a:xfrm>
              <a:off x="5937120" y="501480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19840" y="502884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237360" y="4633920"/>
            <a:ext cx="355680" cy="344880"/>
            <a:chOff x="6237360" y="4633920"/>
            <a:chExt cx="355680" cy="344880"/>
          </a:xfrm>
        </p:grpSpPr>
        <p:sp>
          <p:nvSpPr>
            <p:cNvPr id="103" name=""/>
            <p:cNvSpPr/>
            <p:nvPr/>
          </p:nvSpPr>
          <p:spPr>
            <a:xfrm>
              <a:off x="6254640" y="463392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7360" y="464796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594120" y="4178160"/>
            <a:ext cx="407160" cy="344880"/>
            <a:chOff x="6594120" y="4178160"/>
            <a:chExt cx="407160" cy="344880"/>
          </a:xfrm>
        </p:grpSpPr>
        <p:sp>
          <p:nvSpPr>
            <p:cNvPr id="106" name=""/>
            <p:cNvSpPr/>
            <p:nvPr/>
          </p:nvSpPr>
          <p:spPr>
            <a:xfrm>
              <a:off x="6636960" y="4178160"/>
              <a:ext cx="3038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94120" y="419220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70240" y="3797280"/>
            <a:ext cx="407160" cy="344880"/>
            <a:chOff x="6870240" y="3797280"/>
            <a:chExt cx="407160" cy="344880"/>
          </a:xfrm>
        </p:grpSpPr>
        <p:sp>
          <p:nvSpPr>
            <p:cNvPr id="109" name=""/>
            <p:cNvSpPr/>
            <p:nvPr/>
          </p:nvSpPr>
          <p:spPr>
            <a:xfrm>
              <a:off x="6912000" y="379728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0240" y="381132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56760" y="635040"/>
            <a:ext cx="482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ARING 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 BEHIND THE ANTEN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61160" y="4332240"/>
            <a:ext cx="72396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6120" y="604980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Antenna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040" y="5605560"/>
            <a:ext cx="7236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82600" y="573264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tenna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447920"/>
          <a:ext cx="6121440" cy="228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447920"/>
                    <a:ext cx="6121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C%209012%20-%20comp%20604" descr=""/>
          <p:cNvPicPr/>
          <p:nvPr/>
        </p:nvPicPr>
        <p:blipFill>
          <a:blip r:embed="rId4"/>
          <a:stretch/>
        </p:blipFill>
        <p:spPr>
          <a:xfrm>
            <a:off x="2362320" y="3632040"/>
            <a:ext cx="4267080" cy="294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2387520" y="5810040"/>
            <a:ext cx="933480" cy="11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52560" bIns="52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362320" y="6095880"/>
            <a:ext cx="101592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620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4160" y="56707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5960" y="55166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98440" y="55119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98720" y="78588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8880" y="6168960"/>
            <a:ext cx="392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4Sector" descr=""/>
          <p:cNvPicPr/>
          <p:nvPr/>
        </p:nvPicPr>
        <p:blipFill>
          <a:blip r:embed="rId2"/>
          <a:stretch/>
        </p:blipFill>
        <p:spPr>
          <a:xfrm>
            <a:off x="693720" y="2303640"/>
            <a:ext cx="4016520" cy="3938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35440" y="3000240"/>
            <a:ext cx="50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60920" y="3714840"/>
            <a:ext cx="549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95760" y="4448160"/>
            <a:ext cx="5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5440" y="5170320"/>
            <a:ext cx="504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4480" y="3673440"/>
            <a:ext cx="36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5440" y="4324320"/>
            <a:ext cx="371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86080" y="3956040"/>
            <a:ext cx="368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48840" y="2335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06320" y="5629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65360" y="2108160"/>
            <a:ext cx="36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9760" y="4110120"/>
            <a:ext cx="368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8120" y="4129200"/>
            <a:ext cx="366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9880" y="334476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880" y="473220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8440" y="36320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13000" y="392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51160" y="4483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4749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31840" y="4221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264200" y="2073240"/>
          <a:ext cx="16430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4200" y="2073240"/>
                    <a:ext cx="1643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039200" y="1523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92560" y="5029200"/>
            <a:ext cx="327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olation takes into account all gains and losses in the signal between two ra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007400" y="3825720"/>
          <a:ext cx="164304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7400" y="382572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782400" y="4025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2480" y="2852640"/>
            <a:ext cx="19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257440" y="2362320"/>
            <a:ext cx="7621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403440"/>
            <a:ext cx="673200" cy="389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9320" y="42163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962520"/>
            <a:ext cx="6292800" cy="15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67640" y="386388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5400" y="428796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6840" y="289548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49560" y="36482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8880" y="4309920"/>
            <a:ext cx="123156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6606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al antenna-to-antenna isolation level should produce a noise level that is less than the 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4240" y="5661000"/>
            <a:ext cx="3764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-9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6356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356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88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7960" y="1577880"/>
            <a:ext cx="81295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worst-case antenna-to-antenna isolation at your base station is 100 dBm, then your actual (or highest) noise floor can be calcul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377028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138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51560" y="411804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28320" y="268776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27160" y="411480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256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880" y="411336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1040" y="34401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10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22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85960" y="5460840"/>
            <a:ext cx="376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10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7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7:25:28Z</dcterms:created>
  <dc:creator>Jim Bryant</dc:creator>
  <dc:description/>
  <dc:language>en-US</dc:language>
  <cp:lastModifiedBy>Karen Crain</cp:lastModifiedBy>
  <cp:lastPrinted>2002-02-08T15:36:29Z</cp:lastPrinted>
  <dcterms:modified xsi:type="dcterms:W3CDTF">2002-02-08T19:07:58Z</dcterms:modified>
  <cp:revision>243</cp:revision>
  <dc:subject/>
  <dc:title>No Slide Title</dc:title>
</cp:coreProperties>
</file>