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89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584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C5F7-6E03-4BAD-8DA2-A1AA25F48841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95560" y="68724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4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: add notes: would discount on line charges as beachead and make money on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2455-2882-4A04-B871-CC0CE8CDD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27EB-9C04-4A65-8F41-BB0ACCFA9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DB097-F356-4A54-9731-134A98E58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CD71-F9FE-4140-869C-1AD6905C1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E93A-B954-4806-B70C-099A9FF23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0819-882B-4FE4-88BD-B30E12D0D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83F6-4B64-418E-8123-0EB29FFEB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8FA9-9665-47C8-9D66-1B8242B42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24540-3D3D-49AC-B81A-901B6F627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A7D8-07A6-4C63-923D-2A99BDFD5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2B29-CF7E-47A3-B92F-2F87F0372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8E5C-6BEC-43F1-B05F-B1A942772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" y="6097680"/>
            <a:ext cx="8294760" cy="60156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60" y="18108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69840" indent="-171360">
              <a:spcBef>
                <a:spcPts val="1125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316160" indent="-173160">
              <a:spcBef>
                <a:spcPts val="1125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660680" indent="-173160">
              <a:spcBef>
                <a:spcPts val="1125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07280" y="638928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7191-5C74-4684-B0C0-C2C9DEC71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097680"/>
            <a:ext cx="498600" cy="600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1080" y="460440"/>
            <a:ext cx="876600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02440" y="652320"/>
            <a:ext cx="212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4600" y="184320"/>
            <a:ext cx="8778960" cy="651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520" y="730080"/>
            <a:ext cx="876636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SOMAstackedWHITEonBLACK" descr=""/>
          <p:cNvPicPr/>
          <p:nvPr/>
        </p:nvPicPr>
        <p:blipFill>
          <a:blip r:embed="rId2"/>
          <a:stretch/>
        </p:blipFill>
        <p:spPr>
          <a:xfrm>
            <a:off x="239760" y="6127920"/>
            <a:ext cx="336600" cy="5522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888320" y="6097680"/>
            <a:ext cx="0" cy="601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7887960" y="637380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7889400" y="609768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3120" y="3236760"/>
            <a:ext cx="7670880" cy="28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73120" y="2003400"/>
            <a:ext cx="7670880" cy="1301760"/>
          </a:xfrm>
          <a:prstGeom prst="rect">
            <a:avLst/>
          </a:prstGeom>
          <a:solidFill>
            <a:srgbClr val="63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6118200"/>
            <a:ext cx="7670880" cy="739800"/>
          </a:xfrm>
          <a:prstGeom prst="rect">
            <a:avLst/>
          </a:prstGeom>
          <a:solidFill>
            <a:srgbClr val="b7b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2560" y="6338160"/>
            <a:ext cx="459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 Francisco  •   Toronto  •   Dallas  •   Ott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3500000">
            <a:off x="1290240" y="3750480"/>
            <a:ext cx="252360" cy="252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6880" y="2139480"/>
            <a:ext cx="7647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OMAstackedBLUE" descr=""/>
          <p:cNvPicPr/>
          <p:nvPr/>
        </p:nvPicPr>
        <p:blipFill>
          <a:blip r:embed="rId2"/>
          <a:stretch/>
        </p:blipFill>
        <p:spPr>
          <a:xfrm>
            <a:off x="247680" y="225360"/>
            <a:ext cx="974520" cy="1596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9160" indent="341280" algn="ctr">
              <a:spcBef>
                <a:spcPts val="1001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71360" algn="ctr">
              <a:spcBef>
                <a:spcPts val="876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173160" algn="ctr">
              <a:spcBef>
                <a:spcPts val="876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468360" indent="1019160" algn="ctr">
              <a:spcBef>
                <a:spcPts val="751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5680" y="2120400"/>
            <a:ext cx="77439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QoS in IP-Centric BWA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46440" y="3660840"/>
            <a:ext cx="703080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ing Toll-quality voice into IP BW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hael Stu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A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4,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114280" y="1028880"/>
            <a:ext cx="8165880" cy="4983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headers too expensive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eavy duty header compression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: down to 2 bi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7760" y="1015560"/>
            <a:ext cx="1712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264760" y="1911240"/>
            <a:ext cx="6531120" cy="2270880"/>
            <a:chOff x="2264760" y="1911240"/>
            <a:chExt cx="6531120" cy="2270880"/>
          </a:xfrm>
        </p:grpSpPr>
        <p:sp>
          <p:nvSpPr>
            <p:cNvPr id="462" name=""/>
            <p:cNvSpPr/>
            <p:nvPr/>
          </p:nvSpPr>
          <p:spPr>
            <a:xfrm>
              <a:off x="5522760" y="2239920"/>
              <a:ext cx="109404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264760" y="1911240"/>
              <a:ext cx="6531120" cy="2270880"/>
              <a:chOff x="2264760" y="1911240"/>
              <a:chExt cx="6531120" cy="2270880"/>
            </a:xfrm>
          </p:grpSpPr>
          <p:sp>
            <p:nvSpPr>
              <p:cNvPr id="464" name=""/>
              <p:cNvSpPr/>
              <p:nvPr/>
            </p:nvSpPr>
            <p:spPr>
              <a:xfrm>
                <a:off x="2264760" y="1957320"/>
                <a:ext cx="6531120" cy="17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ood vocoder: 8 Kbps:</a:t>
                </a:r>
                <a:br>
                  <a:rPr sz="2000"/>
                </a:b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1 packet / 10 ms                                         80% Overh.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packet / 20 ms                                         66% Overh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78400" y="2079360"/>
                <a:ext cx="3262320" cy="144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86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38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1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43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95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48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008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580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102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629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152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674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201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72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24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77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29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381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34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4535640" y="2617560"/>
                <a:ext cx="2714400" cy="465120"/>
                <a:chOff x="4535640" y="2617560"/>
                <a:chExt cx="2714400" cy="465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35640" y="2617560"/>
                  <a:ext cx="22050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748560" y="2617560"/>
                  <a:ext cx="50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548240" y="3416040"/>
                <a:ext cx="2714400" cy="465120"/>
                <a:chOff x="4548240" y="3416040"/>
                <a:chExt cx="2714400" cy="465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548240" y="3416040"/>
                  <a:ext cx="19368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1160" y="3416040"/>
                  <a:ext cx="77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5665680" y="2222280"/>
                <a:ext cx="1522440" cy="3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61200" y="3046320"/>
                <a:ext cx="26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56160" y="38448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1F221-E71E-40AA-9245-7ED8C2C17187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130120" y="906480"/>
            <a:ext cx="664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cheater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I.e. teenagers playing Quake, etc.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monitoring and contro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 voice from data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Queuing policy is critica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d IP queuing treatment for voice, 911, system, mgmt, and user data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9A7C-9D9A-4517-9F1B-B8817F4F71DB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736280" y="906480"/>
            <a:ext cx="73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exploit application-layer knowledge to maximize efficienc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pability to make intelligent QoS-related requests of underlying layers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have lower layers influence applic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ed strateg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Interplay between application and network lay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16080" y="2660760"/>
            <a:ext cx="6740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witch from 8 to 64-bit vocoder for FAX or mod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aving 911 calls preempt an existing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5273640"/>
            <a:ext cx="64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 AI layer requesting application to cut vocoder rate in  9/11 or X-mas congestion situ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ADC7-2987-4895-AE87-DDEEED0D2374}" type="slidenum">
              <a:t>12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33360" y="10000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 not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348920" y="1001880"/>
            <a:ext cx="6642360" cy="46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its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fit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= (bits/Hz)*(revenue/sub) / (bits/sub)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– (cost/Hz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840" y="3675240"/>
            <a:ext cx="931680" cy="518760"/>
          </a:xfrm>
          <a:prstGeom prst="rightArrow">
            <a:avLst>
              <a:gd name="adj1" fmla="val 50000"/>
              <a:gd name="adj2" fmla="val 44899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8440" y="3711600"/>
            <a:ext cx="76755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spectral efficiency for highest capacity (bits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revenue/bit with high-margin services like voice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(revenue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bandwidth per sub for delivered services (bits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overall system costs (cost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BB1FC-D688-4AF0-A43A-9A36B3814AA3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ce is a killer IP application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9320" y="993240"/>
            <a:ext cx="88837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, if done right (i.e. toll-quality + features), can generate 50% of revenue, but only costs 5% of bandwidth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. . . but it is not e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6600" y="19875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35120" y="2008080"/>
            <a:ext cx="672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Worst case delay budget is 200 ms.,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vocoder process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acketizatio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queu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modem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adio frame wai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rial transmiss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outer and switch forward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ceive jitter buff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ST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ADB3-4AE1-4EA1-908C-3BA34163FB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682920" y="128520"/>
            <a:ext cx="96901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’s Amosphere: cost-effective toll-quality Voice +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9480" y="923760"/>
            <a:ext cx="89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A’s Amosphere addresses this challenge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100 ms voice delay between CPE and PST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200 ms voice delay between two Amosphere CP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th large efficiency gains over competing solutions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air interface coding tailored to vo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VAD + CNI + C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2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extreme header 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1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or distributed (localized) intelligence to collect digit, generate dial, ring, and busy tones, and the processing of announcements, speed-dialing, call forwarding call-scree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3520" y="4915080"/>
            <a:ext cx="716040" cy="339480"/>
          </a:xfrm>
          <a:prstGeom prst="rightArrow">
            <a:avLst>
              <a:gd name="adj1" fmla="val 50000"/>
              <a:gd name="adj2" fmla="val 52731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35440" y="4849920"/>
            <a:ext cx="39985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fficiency gain factor of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 times more subscr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00% increase in voice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3520" y="527688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3520" y="562140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A2A9-471C-4473-B47E-CED76270A6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1440" y="61920"/>
            <a:ext cx="751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 Meets the Six Requirement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95240" y="27147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truck ro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00640" y="2989440"/>
            <a:ext cx="263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steering antenna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line-of-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s building penetration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195720" y="27558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25" name=""/>
          <p:cNvSpPr/>
          <p:nvPr/>
        </p:nvSpPr>
        <p:spPr>
          <a:xfrm>
            <a:off x="2952720" y="19494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46960" y="44226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cilities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44760" y="10573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ll-quality voic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91960" y="128916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provision &amp; self-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4760" y="4419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pid, low-cost featur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" y="27518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oadb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6160" y="156852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-era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nd VoiceXML IV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-the-air service ac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9760" y="4710240"/>
            <a:ext cx="380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 creation and executio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through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ly open API + S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transport, control, and sig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0240" y="2986920"/>
            <a:ext cx="206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gabit 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advanc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49080" y="132408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-in ground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POTS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oS from air to 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j0178677" descr=""/>
          <p:cNvPicPr/>
          <p:nvPr/>
        </p:nvPicPr>
        <p:blipFill>
          <a:blip r:embed="rId2"/>
          <a:stretch/>
        </p:blipFill>
        <p:spPr>
          <a:xfrm>
            <a:off x="4529160" y="2755800"/>
            <a:ext cx="1311120" cy="87336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36" name=""/>
          <p:cNvSpPr/>
          <p:nvPr/>
        </p:nvSpPr>
        <p:spPr>
          <a:xfrm>
            <a:off x="5681520" y="4716360"/>
            <a:ext cx="24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-of-the-art SAI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red 5MHz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1 frequency 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CFD26-0E0D-4ACF-98DC-E380F9FA38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l-quality Voice: Critically Important for BWA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45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emis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114280" y="1351080"/>
            <a:ext cx="6319800" cy="40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ll quality voice is critical to make the business case work for the new generation, non-line-of-sight, residential  Wireless Broadband Access solutions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The name of the game is revenue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95720" y="40482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52720" y="32418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j0178677" descr=""/>
          <p:cNvPicPr/>
          <p:nvPr/>
        </p:nvPicPr>
        <p:blipFill>
          <a:blip r:embed="rId2"/>
          <a:stretch/>
        </p:blipFill>
        <p:spPr>
          <a:xfrm>
            <a:off x="4529160" y="4048200"/>
            <a:ext cx="1311120" cy="87300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408C-C80F-4031-9E7A-E91D9F4B526E}" type="slidenum">
              <a:t>2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0120" y="1258920"/>
            <a:ext cx="6145200" cy="44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0000" y="5427720"/>
            <a:ext cx="3340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000" y="47750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000" y="4122720"/>
            <a:ext cx="55274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34844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0000" y="283212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0000" y="217980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000" y="1527120"/>
            <a:ext cx="334008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000" y="1527120"/>
            <a:ext cx="1440" cy="390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9240" y="5427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9240" y="47750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89240" y="4122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9240" y="34844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9240" y="28321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89240" y="2179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89240" y="15271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8120" y="1425600"/>
            <a:ext cx="587520" cy="4127400"/>
            <a:chOff x="708120" y="1425600"/>
            <a:chExt cx="587520" cy="4127400"/>
          </a:xfrm>
        </p:grpSpPr>
        <p:sp>
          <p:nvSpPr>
            <p:cNvPr id="129" name=""/>
            <p:cNvSpPr/>
            <p:nvPr/>
          </p:nvSpPr>
          <p:spPr>
            <a:xfrm>
              <a:off x="887760" y="5324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8840" y="46735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840" y="40212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8840" y="338148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840" y="27288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120" y="207792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120" y="142560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-639360" y="3462480"/>
            <a:ext cx="21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 Revenue/User in U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396200" y="5761080"/>
            <a:ext cx="1289520" cy="228600"/>
            <a:chOff x="7396200" y="5761080"/>
            <a:chExt cx="1289520" cy="228600"/>
          </a:xfrm>
        </p:grpSpPr>
        <p:sp>
          <p:nvSpPr>
            <p:cNvPr id="138" name=""/>
            <p:cNvSpPr/>
            <p:nvPr/>
          </p:nvSpPr>
          <p:spPr>
            <a:xfrm>
              <a:off x="7396200" y="5824440"/>
              <a:ext cx="90720" cy="9072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34440" y="5761080"/>
              <a:ext cx="115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659560" y="5761080"/>
            <a:ext cx="1364400" cy="228600"/>
            <a:chOff x="5659560" y="5761080"/>
            <a:chExt cx="1364400" cy="228600"/>
          </a:xfrm>
        </p:grpSpPr>
        <p:sp>
          <p:nvSpPr>
            <p:cNvPr id="141" name=""/>
            <p:cNvSpPr/>
            <p:nvPr/>
          </p:nvSpPr>
          <p:spPr>
            <a:xfrm>
              <a:off x="5659560" y="5824800"/>
              <a:ext cx="102960" cy="102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7800" y="5761080"/>
              <a:ext cx="122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ng Dist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54440" y="5761080"/>
            <a:ext cx="1533960" cy="228600"/>
            <a:chOff x="3754440" y="5761080"/>
            <a:chExt cx="1533960" cy="228600"/>
          </a:xfrm>
        </p:grpSpPr>
        <p:sp>
          <p:nvSpPr>
            <p:cNvPr id="144" name=""/>
            <p:cNvSpPr/>
            <p:nvPr/>
          </p:nvSpPr>
          <p:spPr>
            <a:xfrm>
              <a:off x="3754440" y="5826240"/>
              <a:ext cx="102960" cy="101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93040" y="5761080"/>
              <a:ext cx="139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ling Fea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252520" y="5761080"/>
            <a:ext cx="1131120" cy="228600"/>
            <a:chOff x="2252520" y="5761080"/>
            <a:chExt cx="1131120" cy="228600"/>
          </a:xfrm>
        </p:grpSpPr>
        <p:sp>
          <p:nvSpPr>
            <p:cNvPr id="147" name=""/>
            <p:cNvSpPr/>
            <p:nvPr/>
          </p:nvSpPr>
          <p:spPr>
            <a:xfrm>
              <a:off x="2252520" y="5825880"/>
              <a:ext cx="103320" cy="101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2200" y="576108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 Vo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6600" y="5761080"/>
            <a:ext cx="1545120" cy="228600"/>
            <a:chOff x="336600" y="5761080"/>
            <a:chExt cx="1545120" cy="228600"/>
          </a:xfrm>
        </p:grpSpPr>
        <p:sp>
          <p:nvSpPr>
            <p:cNvPr id="150" name=""/>
            <p:cNvSpPr/>
            <p:nvPr/>
          </p:nvSpPr>
          <p:spPr>
            <a:xfrm>
              <a:off x="336600" y="5824800"/>
              <a:ext cx="103320" cy="101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920" y="5761080"/>
              <a:ext cx="140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idential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16280" y="4378320"/>
            <a:ext cx="600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8880" y="3484440"/>
            <a:ext cx="600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5200" y="2998800"/>
            <a:ext cx="5112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880" y="2511360"/>
            <a:ext cx="600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8880" y="2025720"/>
            <a:ext cx="6001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70120" y="3665520"/>
            <a:ext cx="1338120" cy="1762200"/>
            <a:chOff x="1770120" y="3665520"/>
            <a:chExt cx="1338120" cy="1762200"/>
          </a:xfrm>
        </p:grpSpPr>
        <p:grpSp>
          <p:nvGrpSpPr>
            <p:cNvPr id="158" name=""/>
            <p:cNvGrpSpPr/>
            <p:nvPr/>
          </p:nvGrpSpPr>
          <p:grpSpPr>
            <a:xfrm>
              <a:off x="1770120" y="3983040"/>
              <a:ext cx="1338120" cy="1444680"/>
              <a:chOff x="1770120" y="3983040"/>
              <a:chExt cx="1338120" cy="144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1770120" y="3983040"/>
                <a:ext cx="133812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91680" y="43909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770120" y="3665520"/>
              <a:ext cx="1338120" cy="318960"/>
              <a:chOff x="1770120" y="3665520"/>
              <a:chExt cx="1338120" cy="318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770120" y="3665520"/>
                <a:ext cx="133812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04280" y="376848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160" y="180720"/>
            <a:ext cx="87818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ue per user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1600" y="6318360"/>
            <a:ext cx="50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Goldman Sachs Equity Research, FCC, Verio Web Ho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134120" y="2181240"/>
            <a:ext cx="1726200" cy="3174840"/>
            <a:chOff x="7134120" y="2181240"/>
            <a:chExt cx="1726200" cy="3174840"/>
          </a:xfrm>
        </p:grpSpPr>
        <p:grpSp>
          <p:nvGrpSpPr>
            <p:cNvPr id="167" name=""/>
            <p:cNvGrpSpPr/>
            <p:nvPr/>
          </p:nvGrpSpPr>
          <p:grpSpPr>
            <a:xfrm>
              <a:off x="7146720" y="2854440"/>
              <a:ext cx="736920" cy="1028520"/>
              <a:chOff x="7146720" y="2854440"/>
              <a:chExt cx="736920" cy="1028520"/>
            </a:xfrm>
          </p:grpSpPr>
          <p:sp>
            <p:nvSpPr>
              <p:cNvPr id="168" name=""/>
              <p:cNvSpPr/>
              <p:nvPr/>
            </p:nvSpPr>
            <p:spPr>
              <a:xfrm>
                <a:off x="7297560" y="317196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LE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6720" y="2854440"/>
                <a:ext cx="177840" cy="1028520"/>
              </a:xfrm>
              <a:custGeom>
                <a:avLst/>
                <a:gdLst>
                  <a:gd name="textAreaLeft" fmla="*/ 0 w 177840"/>
                  <a:gd name="textAreaRight" fmla="*/ 64080 w 177840"/>
                  <a:gd name="textAreaTop" fmla="*/ 26640 h 1028520"/>
                  <a:gd name="textAreaBottom" fmla="*/ 1001880 h 10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172280" y="3946680"/>
              <a:ext cx="1688040" cy="1409400"/>
              <a:chOff x="7172280" y="3946680"/>
              <a:chExt cx="1688040" cy="1409400"/>
            </a:xfrm>
          </p:grpSpPr>
          <p:sp>
            <p:nvSpPr>
              <p:cNvPr id="171" name=""/>
              <p:cNvSpPr/>
              <p:nvPr/>
            </p:nvSpPr>
            <p:spPr>
              <a:xfrm>
                <a:off x="7297200" y="4492440"/>
                <a:ext cx="156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LEC and CAT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72280" y="3946680"/>
                <a:ext cx="164880" cy="1409400"/>
              </a:xfrm>
              <a:custGeom>
                <a:avLst/>
                <a:gdLst>
                  <a:gd name="textAreaLeft" fmla="*/ 0 w 164880"/>
                  <a:gd name="textAreaRight" fmla="*/ 59400 w 164880"/>
                  <a:gd name="textAreaTop" fmla="*/ 36720 h 1409400"/>
                  <a:gd name="textAreaBottom" fmla="*/ 1372680 h 14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134120" y="2181240"/>
              <a:ext cx="641520" cy="647640"/>
              <a:chOff x="7134120" y="2181240"/>
              <a:chExt cx="641520" cy="647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297560" y="2346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X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4120" y="2181240"/>
                <a:ext cx="190440" cy="647640"/>
              </a:xfrm>
              <a:custGeom>
                <a:avLst/>
                <a:gdLst>
                  <a:gd name="textAreaLeft" fmla="*/ 0 w 190440"/>
                  <a:gd name="textAreaRight" fmla="*/ 68760 w 19044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2072160" y="1146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05280" y="1949400"/>
            <a:ext cx="1338480" cy="3490920"/>
            <a:chOff x="4805280" y="1949400"/>
            <a:chExt cx="1338480" cy="3490920"/>
          </a:xfrm>
        </p:grpSpPr>
        <p:grpSp>
          <p:nvGrpSpPr>
            <p:cNvPr id="178" name=""/>
            <p:cNvGrpSpPr/>
            <p:nvPr/>
          </p:nvGrpSpPr>
          <p:grpSpPr>
            <a:xfrm>
              <a:off x="4805280" y="3995640"/>
              <a:ext cx="1338480" cy="1444680"/>
              <a:chOff x="4805280" y="3995640"/>
              <a:chExt cx="1338480" cy="144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4805280" y="3995640"/>
                <a:ext cx="133848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27200" y="44035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805280" y="3279600"/>
              <a:ext cx="1338480" cy="716040"/>
              <a:chOff x="4805280" y="3279600"/>
              <a:chExt cx="1338480" cy="716040"/>
            </a:xfrm>
          </p:grpSpPr>
          <p:sp>
            <p:nvSpPr>
              <p:cNvPr id="182" name=""/>
              <p:cNvSpPr/>
              <p:nvPr/>
            </p:nvSpPr>
            <p:spPr>
              <a:xfrm>
                <a:off x="4805280" y="3279600"/>
                <a:ext cx="1338480" cy="716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40160" y="351000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2.2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805280" y="2946240"/>
              <a:ext cx="1338480" cy="333360"/>
              <a:chOff x="4805280" y="2946240"/>
              <a:chExt cx="1338480" cy="333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05280" y="2946240"/>
                <a:ext cx="1338480" cy="33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16120" y="3024000"/>
                <a:ext cx="41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9.9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805280" y="2268360"/>
              <a:ext cx="1338480" cy="677880"/>
              <a:chOff x="4805280" y="2268360"/>
              <a:chExt cx="1338480" cy="67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4805280" y="2268360"/>
                <a:ext cx="1338480" cy="677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40160" y="2538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1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805280" y="1949400"/>
              <a:ext cx="1338480" cy="318960"/>
              <a:chOff x="4805280" y="1949400"/>
              <a:chExt cx="1338480" cy="318960"/>
            </a:xfrm>
          </p:grpSpPr>
          <p:sp>
            <p:nvSpPr>
              <p:cNvPr id="191" name=""/>
              <p:cNvSpPr/>
              <p:nvPr/>
            </p:nvSpPr>
            <p:spPr>
              <a:xfrm>
                <a:off x="4805280" y="1949400"/>
                <a:ext cx="133848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40160" y="2052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3612600" y="1146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5480" y="11462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oice &amp;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Voice is a killer IP app if toll-quality + feat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CCF2B-E344-4665-9B6C-D11A395AF5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1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14640" y="1351080"/>
            <a:ext cx="6642000" cy="40161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mply layering a VoIP protocol, such as H.323 or SIP, over a data-oriented IP pipe is not a suitable solution, as it eith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have the required quality, or i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be cost-effectiv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973F-9CCF-40F6-A8AE-53D5A1B1F33A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oblem: contention is the n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734000" y="985680"/>
            <a:ext cx="1063440" cy="1397160"/>
            <a:chOff x="4734000" y="985680"/>
            <a:chExt cx="1063440" cy="1397160"/>
          </a:xfrm>
        </p:grpSpPr>
        <p:pic>
          <p:nvPicPr>
            <p:cNvPr id="201" name="NPM-Rack%206D" descr=""/>
            <p:cNvPicPr/>
            <p:nvPr/>
          </p:nvPicPr>
          <p:blipFill>
            <a:blip r:embed="rId1"/>
            <a:stretch/>
          </p:blipFill>
          <p:spPr>
            <a:xfrm flipH="1">
              <a:off x="5307120" y="1562040"/>
              <a:ext cx="4903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734000" y="985680"/>
              <a:ext cx="55080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358920" y="1325520"/>
            <a:ext cx="2395440" cy="1771560"/>
            <a:chOff x="358920" y="1325520"/>
            <a:chExt cx="2395440" cy="1771560"/>
          </a:xfrm>
        </p:grpSpPr>
        <p:pic>
          <p:nvPicPr>
            <p:cNvPr id="204" name="hh00439_" descr=""/>
            <p:cNvPicPr/>
            <p:nvPr/>
          </p:nvPicPr>
          <p:blipFill>
            <a:blip r:embed="rId3"/>
            <a:stretch/>
          </p:blipFill>
          <p:spPr>
            <a:xfrm>
              <a:off x="1596960" y="1325520"/>
              <a:ext cx="41760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358920" y="2440080"/>
              <a:ext cx="8604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netportW" descr=""/>
            <p:cNvPicPr/>
            <p:nvPr/>
          </p:nvPicPr>
          <p:blipFill>
            <a:blip r:embed="rId5"/>
            <a:stretch/>
          </p:blipFill>
          <p:spPr>
            <a:xfrm>
              <a:off x="2060640" y="1522440"/>
              <a:ext cx="693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888840" y="1942920"/>
              <a:ext cx="1433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275120" y="2033640"/>
              <a:ext cx="88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Home</a:t>
              </a:r>
              <a:br>
                <a:rPr sz="1400"/>
              </a:b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886120" y="1160640"/>
            <a:ext cx="1882800" cy="591840"/>
          </a:xfrm>
          <a:custGeom>
            <a:avLst/>
            <a:gdLst/>
            <a:ahLst/>
            <a:rect l="l" t="t" r="r" b="b"/>
            <a:pathLst>
              <a:path w="1186" h="373">
                <a:moveTo>
                  <a:pt x="0" y="373"/>
                </a:moveTo>
                <a:lnTo>
                  <a:pt x="678" y="147"/>
                </a:lnTo>
                <a:lnTo>
                  <a:pt x="565" y="249"/>
                </a:lnTo>
                <a:lnTo>
                  <a:pt x="118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18080" y="1000080"/>
            <a:ext cx="3441240" cy="2419200"/>
            <a:chOff x="5518080" y="1000080"/>
            <a:chExt cx="3441240" cy="24192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5518080" y="1030320"/>
              <a:ext cx="30654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462360" y="181764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cket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86040" y="10000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36280" y="2838600"/>
              <a:ext cx="92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ublic</a:t>
              </a:r>
              <a:br>
                <a:rPr sz="1600"/>
              </a:b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86680" y="2649600"/>
              <a:ext cx="26820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372520" y="1322280"/>
              <a:ext cx="35856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7320" y="42372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Bandwid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6400" y="4705200"/>
            <a:ext cx="1577880" cy="5749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54280" y="4937040"/>
            <a:ext cx="294012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94400" y="4238640"/>
            <a:ext cx="2940120" cy="1504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6400" y="423864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71720" y="503676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533520"/>
            <a:ext cx="8771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Bandwidth over the air is </a:t>
            </a:r>
            <a:r>
              <a:rPr b="1" lang="en-US" sz="1800" spc="-1" strike="noStrike" u="sng">
                <a:solidFill>
                  <a:srgbClr val="777777"/>
                </a:solidFill>
                <a:uFillTx/>
                <a:latin typeface="Arial"/>
              </a:rPr>
              <a:t>the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critical re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86120" y="302904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imited, expensiv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sourc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at must b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naged effici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597F-F2F2-463D-9F08-1B694F238A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7760" y="1157040"/>
            <a:ext cx="1712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2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114640" y="1158480"/>
            <a:ext cx="6642000" cy="1646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to be engineered into all layers of communication ---  it cannot be added as an after-thought!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5360" y="5197320"/>
            <a:ext cx="8694720" cy="3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i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5360" y="4808520"/>
            <a:ext cx="8694720" cy="39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5360" y="4419720"/>
            <a:ext cx="8694720" cy="393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etportW" descr=""/>
          <p:cNvPicPr/>
          <p:nvPr/>
        </p:nvPicPr>
        <p:blipFill>
          <a:blip r:embed="rId1"/>
          <a:stretch/>
        </p:blipFill>
        <p:spPr>
          <a:xfrm>
            <a:off x="2440080" y="4778280"/>
            <a:ext cx="898560" cy="8319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6195960" y="4751280"/>
            <a:ext cx="617760" cy="855720"/>
            <a:chOff x="6195960" y="4751280"/>
            <a:chExt cx="617760" cy="855720"/>
          </a:xfrm>
        </p:grpSpPr>
        <p:sp>
          <p:nvSpPr>
            <p:cNvPr id="235" name=""/>
            <p:cNvSpPr/>
            <p:nvPr/>
          </p:nvSpPr>
          <p:spPr>
            <a:xfrm>
              <a:off x="6196320" y="475164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5040" y="4753080"/>
              <a:ext cx="271080" cy="80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25840" y="4955400"/>
              <a:ext cx="249120" cy="119880"/>
              <a:chOff x="6225840" y="4955400"/>
              <a:chExt cx="249120" cy="119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225840" y="495540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50320" y="495792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33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2848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964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079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190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306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586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702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817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9324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047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162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27800" y="495792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2836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42840" y="495792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28360" y="50151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5012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50120" y="501480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225480" y="487080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5480" y="4843440"/>
              <a:ext cx="24876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5480" y="543492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45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27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225480" y="4780800"/>
              <a:ext cx="248760" cy="62640"/>
              <a:chOff x="6225480" y="4780800"/>
              <a:chExt cx="248760" cy="62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225480" y="47808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7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521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68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81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60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10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252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396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4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687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835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98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126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27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418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37360" y="5470560"/>
              <a:ext cx="226080" cy="7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5960" y="555660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1800" y="5563440"/>
              <a:ext cx="77040" cy="2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5563440"/>
              <a:ext cx="76680" cy="26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9080" y="5563440"/>
              <a:ext cx="76680" cy="26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25480" y="47534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35200" y="47628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5160" y="476208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2160" y="559692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6800" y="559800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4480" y="475272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23200" y="4751280"/>
              <a:ext cx="271080" cy="806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33640" y="484128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33640" y="543456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533640" y="4779000"/>
              <a:ext cx="248760" cy="62640"/>
              <a:chOff x="6533640" y="4779000"/>
              <a:chExt cx="248760" cy="62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533640" y="47790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45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602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750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89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042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18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333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477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62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769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916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06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208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500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545880" y="5470200"/>
              <a:ext cx="226080" cy="7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4120" y="555624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20320" y="5563080"/>
              <a:ext cx="77040" cy="26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8960" y="5563080"/>
              <a:ext cx="76680" cy="26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7240" y="5563080"/>
              <a:ext cx="76680" cy="26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33640" y="47516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43720" y="47610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3680" y="476064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20680" y="559656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45320" y="559764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532920" y="4925880"/>
              <a:ext cx="249840" cy="512280"/>
              <a:chOff x="6532920" y="4925880"/>
              <a:chExt cx="249840" cy="5122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533640" y="4925880"/>
                <a:ext cx="249120" cy="170640"/>
                <a:chOff x="6533640" y="4925880"/>
                <a:chExt cx="249120" cy="170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533640" y="492588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5379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0920" y="497088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51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973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1032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045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582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67116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6654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194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32000" y="4970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266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533280" y="5096520"/>
                <a:ext cx="249120" cy="170640"/>
                <a:chOff x="6533280" y="5096520"/>
                <a:chExt cx="249120" cy="170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533280" y="5096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5376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50560" y="5141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5448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70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60996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042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578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67080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650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7190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31640" y="5140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262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532920" y="5267520"/>
                <a:ext cx="249120" cy="170640"/>
                <a:chOff x="6532920" y="5267520"/>
                <a:chExt cx="249120" cy="1706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532920" y="5267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372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50200" y="5312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444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966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0960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038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574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7044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646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186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731280" y="5311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258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6225840" y="5074920"/>
              <a:ext cx="249120" cy="119880"/>
              <a:chOff x="6225840" y="5074920"/>
              <a:chExt cx="249120" cy="119880"/>
            </a:xfrm>
          </p:grpSpPr>
          <p:sp>
            <p:nvSpPr>
              <p:cNvPr id="365" name=""/>
              <p:cNvSpPr/>
              <p:nvPr/>
            </p:nvSpPr>
            <p:spPr>
              <a:xfrm>
                <a:off x="6225840" y="507492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50320" y="507744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733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848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964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079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190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306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586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702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817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9324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047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162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27800" y="507744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2836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42840" y="507744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28360" y="51346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5012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50120" y="51343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225840" y="5194440"/>
              <a:ext cx="249120" cy="119520"/>
              <a:chOff x="6225840" y="5194440"/>
              <a:chExt cx="249120" cy="119520"/>
            </a:xfrm>
          </p:grpSpPr>
          <p:sp>
            <p:nvSpPr>
              <p:cNvPr id="386" name=""/>
              <p:cNvSpPr/>
              <p:nvPr/>
            </p:nvSpPr>
            <p:spPr>
              <a:xfrm>
                <a:off x="6225840" y="5194440"/>
                <a:ext cx="249120" cy="11952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50320" y="5196960"/>
                <a:ext cx="2304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733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848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964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079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190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306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586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702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17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9324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047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162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27800" y="5196960"/>
                <a:ext cx="2268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28360" y="519696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342840" y="5196960"/>
                <a:ext cx="16560" cy="11412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28360" y="525384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50120" y="51969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50120" y="52538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225840" y="5313960"/>
              <a:ext cx="249120" cy="119880"/>
              <a:chOff x="6225840" y="5313960"/>
              <a:chExt cx="249120" cy="119880"/>
            </a:xfrm>
          </p:grpSpPr>
          <p:sp>
            <p:nvSpPr>
              <p:cNvPr id="407" name=""/>
              <p:cNvSpPr/>
              <p:nvPr/>
            </p:nvSpPr>
            <p:spPr>
              <a:xfrm>
                <a:off x="6225840" y="531396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50320" y="531648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733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848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964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079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190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06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586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2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817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9324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047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162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27800" y="531648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2836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42840" y="531648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8360" y="53737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5012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0120" y="53733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225360" y="4030560"/>
            <a:ext cx="869472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360" y="3641760"/>
            <a:ext cx="8694720" cy="39384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5360" y="3252960"/>
            <a:ext cx="8694720" cy="393480"/>
          </a:xfrm>
          <a:prstGeom prst="rect">
            <a:avLst/>
          </a:prstGeom>
          <a:solidFill>
            <a:srgbClr val="ff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pplication: VoIP: H.323 / SIP /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9EA6A-1E6A-4132-9BBE-D6260B78E1A2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P data traffic different than voice traffic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 Telc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brid with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chann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resiz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ful R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-dens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mod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0840" y="20178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30840" y="21351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30840" y="190008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0840" y="225252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30840" y="237024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30840" y="24876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30840" y="26049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830840" y="3052800"/>
            <a:ext cx="3925800" cy="987480"/>
            <a:chOff x="4830840" y="3052800"/>
            <a:chExt cx="3925800" cy="987480"/>
          </a:xfrm>
        </p:grpSpPr>
        <p:sp>
          <p:nvSpPr>
            <p:cNvPr id="441" name=""/>
            <p:cNvSpPr/>
            <p:nvPr/>
          </p:nvSpPr>
          <p:spPr>
            <a:xfrm>
              <a:off x="4830840" y="3052800"/>
              <a:ext cx="3925800" cy="7160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0840" y="3771720"/>
              <a:ext cx="3925800" cy="2685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30840" y="4405320"/>
            <a:ext cx="3925800" cy="1236600"/>
            <a:chOff x="4830840" y="4405320"/>
            <a:chExt cx="3925800" cy="1236600"/>
          </a:xfrm>
        </p:grpSpPr>
        <p:sp>
          <p:nvSpPr>
            <p:cNvPr id="444" name=""/>
            <p:cNvSpPr/>
            <p:nvPr/>
          </p:nvSpPr>
          <p:spPr>
            <a:xfrm>
              <a:off x="4830840" y="440532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30840" y="452268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0840" y="4640400"/>
              <a:ext cx="3925800" cy="1076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30840" y="475776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0840" y="4865760"/>
              <a:ext cx="3925800" cy="50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30840" y="5373720"/>
              <a:ext cx="3925800" cy="2682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2D0A-0E18-45FC-9E1D-9910774AE563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ic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higher tolerance for bit errors than 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uce ARQ and FEC overheads for voice onl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386B-1C9F-4D37-A8AD-3B260871A5A5}" type="slidenum">
              <a:t>8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609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arge IP packet can unacceptably delay voice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preemption, fragmentation and reassembly at link lay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19280" y="264780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70360" y="2665440"/>
            <a:ext cx="504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00 Kbps uplink: one 1,500 byte packet can delay voice packet by 60 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= 1/3 of 200 ms end-to-end delay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A251-AF38-4917-9145-33969BC9563A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9:42:18Z</dcterms:created>
  <dc:creator>SOMA Networks, Inc.</dc:creator>
  <dc:description/>
  <dc:language>en-US</dc:language>
  <cp:lastModifiedBy>Karen Crain</cp:lastModifiedBy>
  <cp:lastPrinted>2000-03-30T21:39:35Z</cp:lastPrinted>
  <dcterms:modified xsi:type="dcterms:W3CDTF">2002-02-11T19:17:03Z</dcterms:modified>
  <cp:revision>52</cp:revision>
  <dc:subject/>
  <dc:title>SOMA Networks PowerPoint Template</dc:title>
</cp:coreProperties>
</file>