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11.wmf" ContentType="image/x-wmf"/>
  <Override PartName="/ppt/media/image7.png" ContentType="image/png"/>
  <Override PartName="/ppt/media/image15.wmf" ContentType="image/x-wmf"/>
  <Override PartName="/ppt/media/image6.png" ContentType="image/png"/>
  <Override PartName="/ppt/media/image5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6170-42E5-4EE1-958D-00FAED365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3C04-D280-44A3-B158-12ABE18F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A3D3-009A-48D0-B375-F1D59089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E822-57D6-4BFE-9390-992585AB0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B135-AECC-42BB-A74E-E39265508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BB7F-27AB-40E5-9E7F-105A7625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B601-FFE0-4CBF-8C41-9CB273F0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0078-E7C9-4016-A787-AA4E2DB6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ADCA-4172-488E-A0BF-8B1F5BB3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9304-46CB-4431-8683-701B5489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5711-0E5A-4CC7-B5FC-5DC7A930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D293-BE2A-45BF-AA5E-E1F6165C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24F6-9804-417D-82C9-8D218EFF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5274-56AC-4023-921B-336EDD6F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1706-7FD6-414C-B7F2-4615478D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772B-3A29-4901-B312-49F95E5F1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D108-98CD-4500-9DA9-9CFD7787B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ED8F-0704-4C39-8DB0-D46BB81D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F506-4991-435D-9268-540A4B16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3EFE-2D94-4B98-92A0-E186988C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D783-C826-4826-86EF-6922ECCE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538C-41B0-4955-840B-4ED24448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55B1-6864-48DC-A8CE-5A921A21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6789-7AC2-4F92-8324-A92B8E32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9140-5EE6-4FA4-838F-18FDFF806D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DA18-0C82-438E-8E15-79F8EE5A67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ndltd.org/" TargetMode="Externa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timalisasi Internet dalam Meningkatkan Mutu Pendidik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mail Fahmi, Ir -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Ismail@itb.ac.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nowledge Management Research Group IT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ar Nasional STMIK Jabar 8 Agustus 2000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ayakarta Hot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bih bersifat Sos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08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ang kopi (informal) lebih efektif untuk belajar dari pada ruang kelas (form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stanford_study" descr=""/>
          <p:cNvPicPr/>
          <p:nvPr/>
        </p:nvPicPr>
        <p:blipFill>
          <a:blip r:embed="rId1"/>
          <a:stretch/>
        </p:blipFill>
        <p:spPr>
          <a:xfrm>
            <a:off x="4114800" y="1752480"/>
            <a:ext cx="452592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pektif Kompon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cloud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6046920" cy="4235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07720" y="2792520"/>
            <a:ext cx="381204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f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:many even vir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:1 men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ul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labbor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e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etency road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th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o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stem manajemen “learn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stem Manajemen “Learning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8" name="lms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702936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pektif eBisn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hubungan denga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P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ly-chain optim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langnya intermedia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ubang perangkap (pitfall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si; penyedia eLearning bermil-mil dari monitor learner. Tanpa motivasi tak akan ada koneksi akhir ke pikiran learn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setrasi; belajar melalui desktop, diantara berbagai ganggungan telepon, teman, tetangga, anak, tv, dl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isien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ducational psychologist William Glasser mengatakan, kita belaja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0% of what we r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0% of what we he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0% of what we s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50% of what we see &amp; he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70% of what we discus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80% of what we exper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95% of what we teach someone e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luang kegaga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ualitas dan intensitas mat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tersediaan mat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biasaan, sifat, dan buday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knologi pengiriman materi -- bandwidth, dll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la pembiaya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kurangan dari model kolaborasi digi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ap dalam ri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alibrasi dari ekspekta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Elliott Masie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eLearning Briefing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January 2000, Seatt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ngka Pend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ningkat kebutuhan tra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jemen berbasis standard (XM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re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ngka Panja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lli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bedded dalam perangk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ol” learning menggunakan berbagai media (multimedi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simpulan e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cok untuk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usahaan &amp; pegawa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ing jangka pendek (ski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gaimana denga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lajaran etika dan mo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sialisasi, bermasyarak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lum tergantikan oleh eLearnin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Knowledge Management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532440" y="3124080"/>
            <a:ext cx="2365920" cy="1551600"/>
          </a:xfrm>
          <a:prstGeom prst="rect">
            <a:avLst/>
          </a:prstGeom>
          <a:gradFill rotWithShape="0">
            <a:gsLst>
              <a:gs pos="0">
                <a:srgbClr val="00694d"/>
              </a:gs>
              <a:gs pos="50000">
                <a:srgbClr val="00e4a8"/>
              </a:gs>
              <a:gs pos="100000">
                <a:srgbClr val="00694d"/>
              </a:gs>
            </a:gsLst>
            <a:lin ang="10800000"/>
          </a:gra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k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s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j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3276720"/>
            <a:ext cx="1778040" cy="2325600"/>
          </a:xfrm>
          <a:custGeom>
            <a:avLst/>
            <a:gdLst/>
            <a:ahLst/>
            <a:rect l="l" t="t" r="r" b="b"/>
            <a:pathLst>
              <a:path w="1120" h="1465">
                <a:moveTo>
                  <a:pt x="0" y="712"/>
                </a:moveTo>
                <a:cubicBezTo>
                  <a:pt x="6" y="644"/>
                  <a:pt x="2" y="574"/>
                  <a:pt x="17" y="508"/>
                </a:cubicBezTo>
                <a:cubicBezTo>
                  <a:pt x="20" y="496"/>
                  <a:pt x="42" y="500"/>
                  <a:pt x="51" y="491"/>
                </a:cubicBezTo>
                <a:cubicBezTo>
                  <a:pt x="60" y="482"/>
                  <a:pt x="60" y="467"/>
                  <a:pt x="68" y="457"/>
                </a:cubicBezTo>
                <a:cubicBezTo>
                  <a:pt x="122" y="392"/>
                  <a:pt x="116" y="400"/>
                  <a:pt x="169" y="373"/>
                </a:cubicBezTo>
                <a:cubicBezTo>
                  <a:pt x="227" y="257"/>
                  <a:pt x="134" y="434"/>
                  <a:pt x="220" y="305"/>
                </a:cubicBezTo>
                <a:cubicBezTo>
                  <a:pt x="263" y="241"/>
                  <a:pt x="266" y="174"/>
                  <a:pt x="322" y="119"/>
                </a:cubicBezTo>
                <a:cubicBezTo>
                  <a:pt x="328" y="108"/>
                  <a:pt x="329" y="93"/>
                  <a:pt x="339" y="85"/>
                </a:cubicBezTo>
                <a:cubicBezTo>
                  <a:pt x="393" y="42"/>
                  <a:pt x="476" y="16"/>
                  <a:pt x="542" y="0"/>
                </a:cubicBezTo>
                <a:cubicBezTo>
                  <a:pt x="559" y="6"/>
                  <a:pt x="577" y="10"/>
                  <a:pt x="593" y="17"/>
                </a:cubicBezTo>
                <a:cubicBezTo>
                  <a:pt x="616" y="27"/>
                  <a:pt x="661" y="51"/>
                  <a:pt x="661" y="51"/>
                </a:cubicBezTo>
                <a:cubicBezTo>
                  <a:pt x="681" y="81"/>
                  <a:pt x="709" y="105"/>
                  <a:pt x="728" y="136"/>
                </a:cubicBezTo>
                <a:cubicBezTo>
                  <a:pt x="841" y="317"/>
                  <a:pt x="896" y="524"/>
                  <a:pt x="1050" y="678"/>
                </a:cubicBezTo>
                <a:cubicBezTo>
                  <a:pt x="1120" y="884"/>
                  <a:pt x="1040" y="1105"/>
                  <a:pt x="949" y="1288"/>
                </a:cubicBezTo>
                <a:cubicBezTo>
                  <a:pt x="861" y="1465"/>
                  <a:pt x="554" y="1299"/>
                  <a:pt x="356" y="1304"/>
                </a:cubicBezTo>
                <a:cubicBezTo>
                  <a:pt x="296" y="1364"/>
                  <a:pt x="294" y="1356"/>
                  <a:pt x="203" y="1338"/>
                </a:cubicBezTo>
                <a:cubicBezTo>
                  <a:pt x="149" y="1285"/>
                  <a:pt x="114" y="1228"/>
                  <a:pt x="51" y="1186"/>
                </a:cubicBezTo>
                <a:cubicBezTo>
                  <a:pt x="0" y="980"/>
                  <a:pt x="58" y="1232"/>
                  <a:pt x="17" y="745"/>
                </a:cubicBezTo>
                <a:cubicBezTo>
                  <a:pt x="16" y="733"/>
                  <a:pt x="0" y="712"/>
                  <a:pt x="0" y="712"/>
                </a:cubicBezTo>
                <a:close/>
              </a:path>
            </a:pathLst>
          </a:cu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10800000"/>
          </a:gradFill>
          <a:ln w="9360">
            <a:solidFill>
              <a:srgbClr val="ffcf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71920" y="3267000"/>
            <a:ext cx="1309680" cy="914400"/>
          </a:xfrm>
          <a:custGeom>
            <a:avLst/>
            <a:gdLst/>
            <a:ahLst/>
            <a:rect l="l" t="t" r="r" b="b"/>
            <a:pathLst>
              <a:path w="825" h="576">
                <a:moveTo>
                  <a:pt x="21" y="441"/>
                </a:moveTo>
                <a:lnTo>
                  <a:pt x="190" y="492"/>
                </a:lnTo>
                <a:cubicBezTo>
                  <a:pt x="190" y="492"/>
                  <a:pt x="190" y="492"/>
                  <a:pt x="190" y="492"/>
                </a:cubicBezTo>
                <a:cubicBezTo>
                  <a:pt x="235" y="503"/>
                  <a:pt x="284" y="505"/>
                  <a:pt x="326" y="526"/>
                </a:cubicBezTo>
                <a:cubicBezTo>
                  <a:pt x="414" y="569"/>
                  <a:pt x="369" y="553"/>
                  <a:pt x="461" y="576"/>
                </a:cubicBezTo>
                <a:cubicBezTo>
                  <a:pt x="505" y="572"/>
                  <a:pt x="652" y="563"/>
                  <a:pt x="715" y="542"/>
                </a:cubicBezTo>
                <a:cubicBezTo>
                  <a:pt x="739" y="534"/>
                  <a:pt x="783" y="509"/>
                  <a:pt x="783" y="509"/>
                </a:cubicBezTo>
                <a:cubicBezTo>
                  <a:pt x="794" y="486"/>
                  <a:pt x="825" y="465"/>
                  <a:pt x="817" y="441"/>
                </a:cubicBezTo>
                <a:cubicBezTo>
                  <a:pt x="800" y="389"/>
                  <a:pt x="798" y="364"/>
                  <a:pt x="749" y="339"/>
                </a:cubicBezTo>
                <a:cubicBezTo>
                  <a:pt x="740" y="292"/>
                  <a:pt x="722" y="152"/>
                  <a:pt x="681" y="119"/>
                </a:cubicBezTo>
                <a:cubicBezTo>
                  <a:pt x="651" y="94"/>
                  <a:pt x="600" y="80"/>
                  <a:pt x="563" y="68"/>
                </a:cubicBezTo>
                <a:cubicBezTo>
                  <a:pt x="538" y="19"/>
                  <a:pt x="513" y="17"/>
                  <a:pt x="461" y="0"/>
                </a:cubicBezTo>
                <a:cubicBezTo>
                  <a:pt x="384" y="15"/>
                  <a:pt x="311" y="33"/>
                  <a:pt x="241" y="68"/>
                </a:cubicBezTo>
                <a:cubicBezTo>
                  <a:pt x="212" y="126"/>
                  <a:pt x="217" y="173"/>
                  <a:pt x="156" y="204"/>
                </a:cubicBezTo>
                <a:cubicBezTo>
                  <a:pt x="150" y="215"/>
                  <a:pt x="148" y="229"/>
                  <a:pt x="139" y="238"/>
                </a:cubicBezTo>
                <a:cubicBezTo>
                  <a:pt x="130" y="247"/>
                  <a:pt x="113" y="244"/>
                  <a:pt x="105" y="254"/>
                </a:cubicBezTo>
                <a:cubicBezTo>
                  <a:pt x="73" y="293"/>
                  <a:pt x="30" y="406"/>
                  <a:pt x="4" y="458"/>
                </a:cubicBezTo>
                <a:cubicBezTo>
                  <a:pt x="0" y="465"/>
                  <a:pt x="15" y="447"/>
                  <a:pt x="21" y="441"/>
                </a:cubicBezTo>
                <a:close/>
              </a:path>
            </a:pathLst>
          </a:cu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57600" y="3886200"/>
            <a:ext cx="3174840" cy="220680"/>
          </a:xfrm>
          <a:custGeom>
            <a:avLst/>
            <a:gdLst/>
            <a:ahLst/>
            <a:rect l="l" t="t" r="r" b="b"/>
            <a:pathLst>
              <a:path w="2000" h="139">
                <a:moveTo>
                  <a:pt x="0" y="55"/>
                </a:moveTo>
                <a:cubicBezTo>
                  <a:pt x="90" y="73"/>
                  <a:pt x="91" y="84"/>
                  <a:pt x="187" y="55"/>
                </a:cubicBezTo>
                <a:cubicBezTo>
                  <a:pt x="211" y="48"/>
                  <a:pt x="255" y="21"/>
                  <a:pt x="255" y="21"/>
                </a:cubicBezTo>
                <a:cubicBezTo>
                  <a:pt x="311" y="50"/>
                  <a:pt x="362" y="60"/>
                  <a:pt x="424" y="72"/>
                </a:cubicBezTo>
                <a:cubicBezTo>
                  <a:pt x="556" y="57"/>
                  <a:pt x="596" y="41"/>
                  <a:pt x="729" y="72"/>
                </a:cubicBezTo>
                <a:cubicBezTo>
                  <a:pt x="754" y="78"/>
                  <a:pt x="797" y="106"/>
                  <a:pt x="797" y="106"/>
                </a:cubicBezTo>
                <a:cubicBezTo>
                  <a:pt x="887" y="95"/>
                  <a:pt x="941" y="93"/>
                  <a:pt x="1017" y="55"/>
                </a:cubicBezTo>
                <a:cubicBezTo>
                  <a:pt x="1149" y="72"/>
                  <a:pt x="1206" y="97"/>
                  <a:pt x="1339" y="72"/>
                </a:cubicBezTo>
                <a:cubicBezTo>
                  <a:pt x="1385" y="63"/>
                  <a:pt x="1474" y="38"/>
                  <a:pt x="1474" y="38"/>
                </a:cubicBezTo>
                <a:cubicBezTo>
                  <a:pt x="1508" y="44"/>
                  <a:pt x="1543" y="45"/>
                  <a:pt x="1576" y="55"/>
                </a:cubicBezTo>
                <a:cubicBezTo>
                  <a:pt x="1600" y="62"/>
                  <a:pt x="1644" y="89"/>
                  <a:pt x="1644" y="89"/>
                </a:cubicBezTo>
                <a:cubicBezTo>
                  <a:pt x="1757" y="51"/>
                  <a:pt x="1713" y="71"/>
                  <a:pt x="1779" y="38"/>
                </a:cubicBezTo>
                <a:cubicBezTo>
                  <a:pt x="1790" y="44"/>
                  <a:pt x="1819" y="44"/>
                  <a:pt x="1813" y="55"/>
                </a:cubicBezTo>
                <a:cubicBezTo>
                  <a:pt x="1805" y="71"/>
                  <a:pt x="1779" y="65"/>
                  <a:pt x="1762" y="72"/>
                </a:cubicBezTo>
                <a:cubicBezTo>
                  <a:pt x="1750" y="77"/>
                  <a:pt x="1739" y="83"/>
                  <a:pt x="1728" y="89"/>
                </a:cubicBezTo>
                <a:cubicBezTo>
                  <a:pt x="1711" y="83"/>
                  <a:pt x="1660" y="72"/>
                  <a:pt x="1678" y="72"/>
                </a:cubicBezTo>
                <a:cubicBezTo>
                  <a:pt x="1723" y="72"/>
                  <a:pt x="1768" y="89"/>
                  <a:pt x="1813" y="89"/>
                </a:cubicBezTo>
                <a:cubicBezTo>
                  <a:pt x="1876" y="89"/>
                  <a:pt x="1938" y="78"/>
                  <a:pt x="2000" y="72"/>
                </a:cubicBezTo>
                <a:cubicBezTo>
                  <a:pt x="1943" y="49"/>
                  <a:pt x="1889" y="19"/>
                  <a:pt x="1830" y="4"/>
                </a:cubicBezTo>
                <a:cubicBezTo>
                  <a:pt x="1814" y="0"/>
                  <a:pt x="1851" y="28"/>
                  <a:pt x="1864" y="38"/>
                </a:cubicBezTo>
                <a:cubicBezTo>
                  <a:pt x="1884" y="53"/>
                  <a:pt x="1928" y="65"/>
                  <a:pt x="1949" y="72"/>
                </a:cubicBezTo>
                <a:cubicBezTo>
                  <a:pt x="1859" y="78"/>
                  <a:pt x="1768" y="76"/>
                  <a:pt x="1678" y="89"/>
                </a:cubicBezTo>
                <a:cubicBezTo>
                  <a:pt x="1653" y="93"/>
                  <a:pt x="1610" y="123"/>
                  <a:pt x="1610" y="123"/>
                </a:cubicBezTo>
                <a:cubicBezTo>
                  <a:pt x="1479" y="111"/>
                  <a:pt x="1376" y="96"/>
                  <a:pt x="1254" y="55"/>
                </a:cubicBezTo>
                <a:cubicBezTo>
                  <a:pt x="1177" y="132"/>
                  <a:pt x="1215" y="109"/>
                  <a:pt x="1152" y="139"/>
                </a:cubicBezTo>
                <a:cubicBezTo>
                  <a:pt x="1090" y="134"/>
                  <a:pt x="1026" y="138"/>
                  <a:pt x="966" y="123"/>
                </a:cubicBezTo>
                <a:cubicBezTo>
                  <a:pt x="954" y="120"/>
                  <a:pt x="962" y="89"/>
                  <a:pt x="949" y="89"/>
                </a:cubicBezTo>
                <a:cubicBezTo>
                  <a:pt x="880" y="89"/>
                  <a:pt x="746" y="123"/>
                  <a:pt x="746" y="123"/>
                </a:cubicBezTo>
                <a:cubicBezTo>
                  <a:pt x="603" y="75"/>
                  <a:pt x="448" y="120"/>
                  <a:pt x="305" y="72"/>
                </a:cubicBezTo>
                <a:cubicBezTo>
                  <a:pt x="186" y="113"/>
                  <a:pt x="335" y="72"/>
                  <a:pt x="187" y="72"/>
                </a:cubicBezTo>
                <a:cubicBezTo>
                  <a:pt x="169" y="72"/>
                  <a:pt x="154" y="91"/>
                  <a:pt x="136" y="89"/>
                </a:cubicBezTo>
                <a:cubicBezTo>
                  <a:pt x="89" y="85"/>
                  <a:pt x="45" y="66"/>
                  <a:pt x="0" y="55"/>
                </a:cubicBezTo>
                <a:close/>
              </a:path>
            </a:pathLst>
          </a:custGeom>
          <a:solidFill>
            <a:srgbClr val="ffcf0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715000" y="29718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59960" y="263052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6800" y="46483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6172200" y="47242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WB01161_" descr=""/>
          <p:cNvPicPr/>
          <p:nvPr/>
        </p:nvPicPr>
        <p:blipFill>
          <a:blip r:embed="rId1"/>
          <a:stretch/>
        </p:blipFill>
        <p:spPr>
          <a:xfrm>
            <a:off x="4419720" y="502920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424400" y="4191120"/>
            <a:ext cx="163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ebe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3505320"/>
            <a:ext cx="990360" cy="380880"/>
          </a:xfrm>
          <a:prstGeom prst="rightArrow">
            <a:avLst>
              <a:gd name="adj1" fmla="val 50000"/>
              <a:gd name="adj2" fmla="val 65005"/>
            </a:avLst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ndidikan di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ledge Manage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Libr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 K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1752480" y="2743200"/>
            <a:ext cx="2743200" cy="2057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94d"/>
              </a:gs>
              <a:gs pos="50000">
                <a:srgbClr val="00e4a8"/>
              </a:gs>
              <a:gs pos="100000">
                <a:srgbClr val="00694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95680" y="3657600"/>
            <a:ext cx="1524240" cy="533520"/>
          </a:xfrm>
          <a:prstGeom prst="leftRightArrow">
            <a:avLst>
              <a:gd name="adj1" fmla="val 50000"/>
              <a:gd name="adj2" fmla="val 56874"/>
            </a:avLst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01080" y="4343400"/>
            <a:ext cx="168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e01561_" descr=""/>
          <p:cNvPicPr/>
          <p:nvPr/>
        </p:nvPicPr>
        <p:blipFill>
          <a:blip r:embed="rId1"/>
          <a:stretch/>
        </p:blipFill>
        <p:spPr>
          <a:xfrm>
            <a:off x="6172200" y="3124080"/>
            <a:ext cx="1986120" cy="13176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022440" y="1905120"/>
            <a:ext cx="194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BS00005A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1006200" cy="1154160"/>
          </a:xfrm>
          <a:prstGeom prst="rect">
            <a:avLst/>
          </a:prstGeom>
          <a:ln w="0">
            <a:noFill/>
          </a:ln>
        </p:spPr>
      </p:pic>
      <p:pic>
        <p:nvPicPr>
          <p:cNvPr id="160" name="WB01513_" descr=""/>
          <p:cNvPicPr/>
          <p:nvPr/>
        </p:nvPicPr>
        <p:blipFill>
          <a:blip r:embed="rId3"/>
          <a:stretch/>
        </p:blipFill>
        <p:spPr>
          <a:xfrm>
            <a:off x="1828800" y="5029200"/>
            <a:ext cx="422280" cy="6858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38200" y="5257800"/>
            <a:ext cx="177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s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3048120" y="2743200"/>
            <a:ext cx="1778040" cy="2334960"/>
            <a:chOff x="3048120" y="2743200"/>
            <a:chExt cx="1778040" cy="2334960"/>
          </a:xfrm>
        </p:grpSpPr>
        <p:sp>
          <p:nvSpPr>
            <p:cNvPr id="163" name=""/>
            <p:cNvSpPr/>
            <p:nvPr/>
          </p:nvSpPr>
          <p:spPr>
            <a:xfrm>
              <a:off x="3048120" y="2752560"/>
              <a:ext cx="1778040" cy="2325600"/>
            </a:xfrm>
            <a:custGeom>
              <a:avLst/>
              <a:gdLst/>
              <a:ahLst/>
              <a:rect l="l" t="t" r="r" b="b"/>
              <a:pathLst>
                <a:path w="1120" h="1465">
                  <a:moveTo>
                    <a:pt x="0" y="712"/>
                  </a:moveTo>
                  <a:cubicBezTo>
                    <a:pt x="6" y="644"/>
                    <a:pt x="2" y="574"/>
                    <a:pt x="17" y="508"/>
                  </a:cubicBezTo>
                  <a:cubicBezTo>
                    <a:pt x="20" y="496"/>
                    <a:pt x="42" y="500"/>
                    <a:pt x="51" y="491"/>
                  </a:cubicBezTo>
                  <a:cubicBezTo>
                    <a:pt x="60" y="482"/>
                    <a:pt x="60" y="467"/>
                    <a:pt x="68" y="457"/>
                  </a:cubicBezTo>
                  <a:cubicBezTo>
                    <a:pt x="122" y="392"/>
                    <a:pt x="116" y="400"/>
                    <a:pt x="169" y="373"/>
                  </a:cubicBezTo>
                  <a:cubicBezTo>
                    <a:pt x="227" y="257"/>
                    <a:pt x="134" y="434"/>
                    <a:pt x="220" y="305"/>
                  </a:cubicBezTo>
                  <a:cubicBezTo>
                    <a:pt x="263" y="241"/>
                    <a:pt x="266" y="174"/>
                    <a:pt x="322" y="119"/>
                  </a:cubicBezTo>
                  <a:cubicBezTo>
                    <a:pt x="328" y="108"/>
                    <a:pt x="329" y="93"/>
                    <a:pt x="339" y="85"/>
                  </a:cubicBezTo>
                  <a:cubicBezTo>
                    <a:pt x="393" y="42"/>
                    <a:pt x="476" y="16"/>
                    <a:pt x="542" y="0"/>
                  </a:cubicBezTo>
                  <a:cubicBezTo>
                    <a:pt x="559" y="6"/>
                    <a:pt x="577" y="10"/>
                    <a:pt x="593" y="17"/>
                  </a:cubicBezTo>
                  <a:cubicBezTo>
                    <a:pt x="616" y="27"/>
                    <a:pt x="661" y="51"/>
                    <a:pt x="661" y="51"/>
                  </a:cubicBezTo>
                  <a:cubicBezTo>
                    <a:pt x="681" y="81"/>
                    <a:pt x="709" y="105"/>
                    <a:pt x="728" y="136"/>
                  </a:cubicBezTo>
                  <a:cubicBezTo>
                    <a:pt x="841" y="317"/>
                    <a:pt x="896" y="524"/>
                    <a:pt x="1050" y="678"/>
                  </a:cubicBezTo>
                  <a:cubicBezTo>
                    <a:pt x="1120" y="884"/>
                    <a:pt x="1040" y="1105"/>
                    <a:pt x="949" y="1288"/>
                  </a:cubicBezTo>
                  <a:cubicBezTo>
                    <a:pt x="861" y="1465"/>
                    <a:pt x="554" y="1299"/>
                    <a:pt x="356" y="1304"/>
                  </a:cubicBezTo>
                  <a:cubicBezTo>
                    <a:pt x="296" y="1364"/>
                    <a:pt x="294" y="1356"/>
                    <a:pt x="203" y="1338"/>
                  </a:cubicBezTo>
                  <a:cubicBezTo>
                    <a:pt x="149" y="1285"/>
                    <a:pt x="114" y="1228"/>
                    <a:pt x="51" y="1186"/>
                  </a:cubicBezTo>
                  <a:cubicBezTo>
                    <a:pt x="0" y="980"/>
                    <a:pt x="58" y="1232"/>
                    <a:pt x="17" y="745"/>
                  </a:cubicBezTo>
                  <a:cubicBezTo>
                    <a:pt x="16" y="733"/>
                    <a:pt x="0" y="712"/>
                    <a:pt x="0" y="7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94d"/>
                </a:gs>
                <a:gs pos="50000">
                  <a:srgbClr val="00e4a8"/>
                </a:gs>
                <a:gs pos="100000">
                  <a:srgbClr val="00694d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76640" y="2743200"/>
              <a:ext cx="1309680" cy="914400"/>
            </a:xfrm>
            <a:custGeom>
              <a:avLst/>
              <a:gdLst/>
              <a:ahLst/>
              <a:rect l="l" t="t" r="r" b="b"/>
              <a:pathLst>
                <a:path w="825" h="576">
                  <a:moveTo>
                    <a:pt x="21" y="441"/>
                  </a:moveTo>
                  <a:lnTo>
                    <a:pt x="190" y="492"/>
                  </a:lnTo>
                  <a:cubicBezTo>
                    <a:pt x="190" y="492"/>
                    <a:pt x="190" y="492"/>
                    <a:pt x="190" y="492"/>
                  </a:cubicBezTo>
                  <a:cubicBezTo>
                    <a:pt x="235" y="503"/>
                    <a:pt x="284" y="505"/>
                    <a:pt x="326" y="526"/>
                  </a:cubicBezTo>
                  <a:cubicBezTo>
                    <a:pt x="414" y="569"/>
                    <a:pt x="369" y="553"/>
                    <a:pt x="461" y="576"/>
                  </a:cubicBezTo>
                  <a:cubicBezTo>
                    <a:pt x="505" y="572"/>
                    <a:pt x="652" y="563"/>
                    <a:pt x="715" y="542"/>
                  </a:cubicBezTo>
                  <a:cubicBezTo>
                    <a:pt x="739" y="534"/>
                    <a:pt x="783" y="509"/>
                    <a:pt x="783" y="509"/>
                  </a:cubicBezTo>
                  <a:cubicBezTo>
                    <a:pt x="794" y="486"/>
                    <a:pt x="825" y="465"/>
                    <a:pt x="817" y="441"/>
                  </a:cubicBezTo>
                  <a:cubicBezTo>
                    <a:pt x="800" y="389"/>
                    <a:pt x="798" y="364"/>
                    <a:pt x="749" y="339"/>
                  </a:cubicBezTo>
                  <a:cubicBezTo>
                    <a:pt x="740" y="292"/>
                    <a:pt x="722" y="152"/>
                    <a:pt x="681" y="119"/>
                  </a:cubicBezTo>
                  <a:cubicBezTo>
                    <a:pt x="651" y="94"/>
                    <a:pt x="600" y="80"/>
                    <a:pt x="563" y="68"/>
                  </a:cubicBezTo>
                  <a:cubicBezTo>
                    <a:pt x="538" y="19"/>
                    <a:pt x="513" y="17"/>
                    <a:pt x="461" y="0"/>
                  </a:cubicBezTo>
                  <a:cubicBezTo>
                    <a:pt x="384" y="15"/>
                    <a:pt x="311" y="33"/>
                    <a:pt x="241" y="68"/>
                  </a:cubicBezTo>
                  <a:cubicBezTo>
                    <a:pt x="212" y="126"/>
                    <a:pt x="217" y="173"/>
                    <a:pt x="156" y="204"/>
                  </a:cubicBezTo>
                  <a:cubicBezTo>
                    <a:pt x="150" y="215"/>
                    <a:pt x="148" y="229"/>
                    <a:pt x="139" y="238"/>
                  </a:cubicBezTo>
                  <a:cubicBezTo>
                    <a:pt x="130" y="247"/>
                    <a:pt x="113" y="244"/>
                    <a:pt x="105" y="254"/>
                  </a:cubicBezTo>
                  <a:cubicBezTo>
                    <a:pt x="73" y="293"/>
                    <a:pt x="30" y="406"/>
                    <a:pt x="4" y="458"/>
                  </a:cubicBezTo>
                  <a:cubicBezTo>
                    <a:pt x="0" y="465"/>
                    <a:pt x="15" y="447"/>
                    <a:pt x="21" y="441"/>
                  </a:cubicBezTo>
                  <a:close/>
                </a:path>
              </a:pathLst>
            </a:cu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590920" y="2666880"/>
            <a:ext cx="2743200" cy="228600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tumbuhan Volu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 Penggun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dikator Keberhasi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7" name="WB01161_" descr=""/>
          <p:cNvPicPr/>
          <p:nvPr/>
        </p:nvPicPr>
        <p:blipFill>
          <a:blip r:embed="rId1"/>
          <a:stretch/>
        </p:blipFill>
        <p:spPr>
          <a:xfrm>
            <a:off x="6553080" y="2362320"/>
            <a:ext cx="971640" cy="971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132440" y="3849840"/>
            <a:ext cx="1157040" cy="834840"/>
          </a:xfrm>
          <a:custGeom>
            <a:avLst/>
            <a:gdLst/>
            <a:ahLst/>
            <a:rect l="l" t="t" r="r" b="b"/>
            <a:pathLst>
              <a:path w="729" h="526">
                <a:moveTo>
                  <a:pt x="0" y="526"/>
                </a:moveTo>
                <a:cubicBezTo>
                  <a:pt x="37" y="508"/>
                  <a:pt x="85" y="516"/>
                  <a:pt x="119" y="492"/>
                </a:cubicBezTo>
                <a:cubicBezTo>
                  <a:pt x="140" y="477"/>
                  <a:pt x="129" y="432"/>
                  <a:pt x="153" y="424"/>
                </a:cubicBezTo>
                <a:cubicBezTo>
                  <a:pt x="236" y="396"/>
                  <a:pt x="186" y="410"/>
                  <a:pt x="305" y="390"/>
                </a:cubicBezTo>
                <a:cubicBezTo>
                  <a:pt x="362" y="362"/>
                  <a:pt x="333" y="384"/>
                  <a:pt x="373" y="305"/>
                </a:cubicBezTo>
                <a:cubicBezTo>
                  <a:pt x="381" y="289"/>
                  <a:pt x="505" y="248"/>
                  <a:pt x="525" y="238"/>
                </a:cubicBezTo>
                <a:cubicBezTo>
                  <a:pt x="570" y="147"/>
                  <a:pt x="508" y="255"/>
                  <a:pt x="576" y="187"/>
                </a:cubicBezTo>
                <a:cubicBezTo>
                  <a:pt x="585" y="178"/>
                  <a:pt x="585" y="163"/>
                  <a:pt x="593" y="153"/>
                </a:cubicBezTo>
                <a:cubicBezTo>
                  <a:pt x="593" y="153"/>
                  <a:pt x="678" y="68"/>
                  <a:pt x="695" y="51"/>
                </a:cubicBezTo>
                <a:cubicBezTo>
                  <a:pt x="709" y="37"/>
                  <a:pt x="715" y="14"/>
                  <a:pt x="729" y="0"/>
                </a:cubicBezTo>
              </a:path>
            </a:pathLst>
          </a:custGeom>
          <a:noFill/>
          <a:ln w="284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bs00561_" descr=""/>
          <p:cNvPicPr/>
          <p:nvPr/>
        </p:nvPicPr>
        <p:blipFill>
          <a:blip r:embed="rId2"/>
          <a:stretch/>
        </p:blipFill>
        <p:spPr>
          <a:xfrm>
            <a:off x="6553080" y="3352680"/>
            <a:ext cx="1224000" cy="8985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562720" y="2590920"/>
            <a:ext cx="838080" cy="1523880"/>
          </a:xfrm>
          <a:custGeom>
            <a:avLst/>
            <a:gdLst>
              <a:gd name="textAreaLeft" fmla="*/ 535320 w 838080"/>
              <a:gd name="textAreaRight" fmla="*/ 838440 w 8380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18"/>
                </a:lnTo>
                <a:cubicBezTo>
                  <a:pt x="10800" y="9518"/>
                  <a:pt x="5400" y="10418"/>
                  <a:pt x="0" y="10418"/>
                </a:cubicBezTo>
                <a:cubicBezTo>
                  <a:pt x="5400" y="10418"/>
                  <a:pt x="10800" y="11318"/>
                  <a:pt x="10800" y="1221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52760" y="4278240"/>
            <a:ext cx="277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tumbuhan 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ang dihubungkan k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BS00612A" descr=""/>
          <p:cNvPicPr/>
          <p:nvPr/>
        </p:nvPicPr>
        <p:blipFill>
          <a:blip r:embed="rId3"/>
          <a:stretch/>
        </p:blipFill>
        <p:spPr>
          <a:xfrm>
            <a:off x="838080" y="48769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666880" y="4495680"/>
            <a:ext cx="381240" cy="1676520"/>
          </a:xfrm>
          <a:custGeom>
            <a:avLst/>
            <a:gdLst>
              <a:gd name="textAreaLeft" fmla="*/ 51120 w 381240"/>
              <a:gd name="textAreaRight" fmla="*/ 330120 w 381240"/>
              <a:gd name="textAreaTop" fmla="*/ 293400 h 1676520"/>
              <a:gd name="textAreaBottom" fmla="*/ 121572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47400" y="5410080"/>
            <a:ext cx="151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untun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s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E01805A" descr=""/>
          <p:cNvPicPr/>
          <p:nvPr/>
        </p:nvPicPr>
        <p:blipFill>
          <a:blip r:embed="rId4"/>
          <a:stretch/>
        </p:blipFill>
        <p:spPr>
          <a:xfrm>
            <a:off x="838080" y="2286000"/>
            <a:ext cx="1295640" cy="12175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82920" y="3581280"/>
            <a:ext cx="216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ap surv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ki key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unci suk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daya “knowledge-friendly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juan dan Bahasa yang jel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ledge transfer dengan berbagai ja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kungan senior manaje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Ganesha Digital Library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78280" y="2017800"/>
            <a:ext cx="327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njadi knowledgebase dari IC ITB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gan mengelola tacit &amp; explicit knowledge civitas ITB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nggunakan TI yang tepat dan terjangkau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n membuka akses bagi masyarakat secara lu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http://digital.lib.itb.ac.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326700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4562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nowledge Map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</a:rPr>
              <a:t>Explici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rse related mater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dividual or groups knowledge: Final project reports, Theses, Dissertations, Research Reports, and pap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ation: internal journals, bulletin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eding from seminar, workshop, studium general within ITB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ltimedia, converted into digital format: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udio and video cassettes collection of ITB Central Library (events, history, language learning, et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peech cassettes collection of Salman Mosq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nowledge Map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</a:rPr>
              <a:t>Taci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rectory of expertise: individual, groups, and departments profi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iling list and archiv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</a:rPr>
              <a:t>External Knowled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eb portal to other science and technology related si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tional Journal for Intranet online access (full text)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328140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33520" y="4419720"/>
            <a:ext cx="4876560" cy="18288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2438280"/>
            <a:ext cx="4876560" cy="18288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6477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nowledge Captu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539640" y="243828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it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98320" y="438300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cit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61640" y="2867040"/>
            <a:ext cx="4333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projects,Theses, Disser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icles, papers, Journals, bulle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eding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59840" y="4876920"/>
            <a:ext cx="413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tise (directories, cv, pro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248520" y="2743200"/>
            <a:ext cx="2057400" cy="2743200"/>
          </a:xfrm>
          <a:prstGeom prst="can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bas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3581280"/>
            <a:ext cx="1676520" cy="838440"/>
          </a:xfrm>
          <a:custGeom>
            <a:avLst/>
            <a:gdLst>
              <a:gd name="textAreaLeft" fmla="*/ 209520 w 1676520"/>
              <a:gd name="textAreaRight" fmla="*/ 1467000 w 16765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52880" y="4495680"/>
            <a:ext cx="1676520" cy="838440"/>
          </a:xfrm>
          <a:custGeom>
            <a:avLst/>
            <a:gdLst>
              <a:gd name="textAreaLeft" fmla="*/ 209520 w 1676520"/>
              <a:gd name="textAreaRight" fmla="*/ 1467000 w 16765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61720" y="762120"/>
            <a:ext cx="1857240" cy="1557000"/>
          </a:xfrm>
          <a:prstGeom prst="rect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way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acces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,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ing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"/>
          <p:cNvCxnSpPr>
            <a:stCxn id="198" idx="1"/>
          </p:cNvCxnSpPr>
          <p:nvPr/>
        </p:nvCxnSpPr>
        <p:spPr>
          <a:xfrm flipV="1" rot="10800000">
            <a:off x="5714280" y="1543680"/>
            <a:ext cx="838800" cy="2037240"/>
          </a:xfrm>
          <a:prstGeom prst="curvedConnector2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nowledge Access &amp; Dissemin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3505320"/>
            <a:ext cx="2057400" cy="2743200"/>
          </a:xfrm>
          <a:prstGeom prst="can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bas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bs00580_" descr=""/>
          <p:cNvPicPr/>
          <p:nvPr/>
        </p:nvPicPr>
        <p:blipFill>
          <a:blip r:embed="rId1"/>
          <a:stretch/>
        </p:blipFill>
        <p:spPr>
          <a:xfrm>
            <a:off x="5562720" y="2362320"/>
            <a:ext cx="1830240" cy="1541520"/>
          </a:xfrm>
          <a:prstGeom prst="rect">
            <a:avLst/>
          </a:prstGeom>
          <a:ln w="0">
            <a:noFill/>
          </a:ln>
        </p:spPr>
      </p:pic>
      <p:cxnSp>
        <p:nvCxnSpPr>
          <p:cNvPr id="203" name=""/>
          <p:cNvCxnSpPr>
            <a:stCxn id="201" idx="4"/>
          </p:cNvCxnSpPr>
          <p:nvPr/>
        </p:nvCxnSpPr>
        <p:spPr>
          <a:xfrm flipV="1">
            <a:off x="2590920" y="3047760"/>
            <a:ext cx="2667240" cy="1829520"/>
          </a:xfrm>
          <a:prstGeom prst="curvedConnector5">
            <a:avLst>
              <a:gd name="adj1" fmla="val 50000"/>
              <a:gd name="adj2" fmla="val 49990"/>
              <a:gd name="adj3" fmla="val 50000"/>
            </a:avLst>
          </a:prstGeom>
          <a:ln w="57240">
            <a:solidFill>
              <a:srgbClr val="ffcc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204" name=""/>
          <p:cNvSpPr/>
          <p:nvPr/>
        </p:nvSpPr>
        <p:spPr>
          <a:xfrm>
            <a:off x="5867280" y="4343400"/>
            <a:ext cx="1828800" cy="53352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19920" y="4495680"/>
            <a:ext cx="182880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43600" y="4572000"/>
            <a:ext cx="1828800" cy="53352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95880" y="4724280"/>
            <a:ext cx="1447920" cy="2286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629400" y="4724280"/>
            <a:ext cx="380880" cy="15264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201" idx="4"/>
            <a:endCxn id="206" idx="3"/>
          </p:cNvCxnSpPr>
          <p:nvPr/>
        </p:nvCxnSpPr>
        <p:spPr>
          <a:xfrm>
            <a:off x="2590920" y="4876560"/>
            <a:ext cx="3621600" cy="151560"/>
          </a:xfrm>
          <a:prstGeom prst="curvedConnector5">
            <a:avLst>
              <a:gd name="adj1" fmla="val 46286"/>
              <a:gd name="adj2" fmla="val 151428"/>
              <a:gd name="adj3" fmla="val 46286"/>
            </a:avLst>
          </a:prstGeom>
          <a:ln w="57240">
            <a:solidFill>
              <a:srgbClr val="cc6600"/>
            </a:solidFill>
            <a:prstDash val="sysDot"/>
            <a:miter/>
            <a:tailEnd len="med" type="triangle" w="med"/>
          </a:ln>
        </p:spPr>
      </p:cxnSp>
      <p:sp>
        <p:nvSpPr>
          <p:cNvPr id="210" name=""/>
          <p:cNvSpPr/>
          <p:nvPr/>
        </p:nvSpPr>
        <p:spPr>
          <a:xfrm>
            <a:off x="3048120" y="3276720"/>
            <a:ext cx="2286000" cy="1371600"/>
          </a:xfrm>
          <a:prstGeom prst="irregularSeal2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10800" y="52214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D-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8040" y="190512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eb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39360" y="277956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Full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193280" y="54100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nowledge Pres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328140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733920" cy="30715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2288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962520" y="2666880"/>
            <a:ext cx="4952880" cy="36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mpus Network Top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322884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447920" y="1523880"/>
          <a:ext cx="6781680" cy="500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6781680" cy="50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ndidikan di Inter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pendidikan konvensional (class room) belum tergantikan (tatap muka, moral, etik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et bisa sangat membantu pendidik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lam beberapa hal, Internet lebih baik dari pendidikan konvension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figurasi Ser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at ini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tium 10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4 MB mem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 GB H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BS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ache + PH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ySQ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S-ISIS search eng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mail + Ezml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5568480" y="1828800"/>
            <a:ext cx="290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entium III 500 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in 256 MB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00 GB HD (hingga TB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ustering R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19720" y="1905120"/>
            <a:ext cx="1066680" cy="380880"/>
          </a:xfrm>
          <a:prstGeom prst="rightArrow">
            <a:avLst>
              <a:gd name="adj1" fmla="val 50000"/>
              <a:gd name="adj2" fmla="val 7001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Jaringan Digital Library Nasion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3313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yek pembuatan sistem jaringan digital library nasional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husus mengelola laporan penelitian, thesis, dan disertas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1150200" y="1752480"/>
            <a:ext cx="632556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ing Graduate Education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pgrading the Utilization of Research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36640" y="5599080"/>
            <a:ext cx="70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DLTD: Network of Digital Library for Theses and Disser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kus komunitas targ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hasiswa dan Peneli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bagai komunitas yang kreatif dan inovatif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dusen knowled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pustaka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bagai knowledge manager, organis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digma library sbg information cen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yarak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alangan industri, bisnis, dll yang memanfaatkan hasil penelitia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luang link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si hasil penelitian terbuka dan mudah diak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kasi hasil penelitian semakin cepat, mudah, dan mura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ualitas lulusan dan hasil penelitiannya mening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manfaatkan hasil penelitian mening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ksternalisasi tacit knowled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age dengan dunia bisnis, industri, dan masyara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rganisasi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laksan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MRG IT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N ASIA/IDRC Singapor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Approv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ayasan Litbang Telekomunikasi dan Informatika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Approv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ian Internet Interconnection Initiatives (AI3) IT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NR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rganisasi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ner (pioneer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astern Indonesia Universities Development Project (EIUDP, the CIDA’s project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University of Cendrawasih (UNCEN), University of Samratulangi (UNSRAT), University of Pattimura (UNPATTI), University of Haluouleo (UNHALU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asca Sarjana IT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search Institute of ITB (LP IT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B Central Library (Digital Librar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DII LIPI Jakart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niversity of Brawijaya Malang Central Libr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niversity of Muhammadiyah Malang Libr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AIN (Institute of Islamic Religion, supported by McGil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AIN Sunan Ampel Surabaya, IAIN Sunan Kalijaga Yogyakart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228600" y="228600"/>
          <a:ext cx="8686800" cy="642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686800" cy="6427800"/>
                  </a:xfrm>
                  <a:prstGeom prst="rect">
                    <a:avLst/>
                  </a:prstGeom>
                  <a:ln w="12600">
                    <a:solidFill>
                      <a:srgbClr val="cc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pologi jaringa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gital libr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313200" y="5181480"/>
            <a:ext cx="2061360" cy="459720"/>
          </a:xfrm>
          <a:prstGeom prst="rect">
            <a:avLst/>
          </a:prstGeom>
          <a:solidFill>
            <a:srgbClr val="99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artner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24360" y="1676520"/>
            <a:ext cx="2043000" cy="459720"/>
          </a:xfrm>
          <a:prstGeom prst="rect">
            <a:avLst/>
          </a:prstGeom>
          <a:solidFill>
            <a:srgbClr val="99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entral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409720" y="2133720"/>
            <a:ext cx="381240" cy="609480"/>
          </a:xfrm>
          <a:prstGeom prst="line">
            <a:avLst/>
          </a:prstGeom>
          <a:ln w="2844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219320" y="4800240"/>
            <a:ext cx="457200" cy="304920"/>
          </a:xfrm>
          <a:prstGeom prst="line">
            <a:avLst/>
          </a:prstGeom>
          <a:ln w="2844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5791320"/>
            <a:ext cx="685800" cy="152280"/>
          </a:xfrm>
          <a:prstGeom prst="line">
            <a:avLst/>
          </a:prstGeom>
          <a:ln w="2844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3124080"/>
            <a:ext cx="2286000" cy="2133720"/>
          </a:xfrm>
          <a:prstGeom prst="ellipse">
            <a:avLst/>
          </a:prstGeom>
          <a:noFill/>
          <a:ln w="19080">
            <a:solidFill>
              <a:srgbClr val="1c1c1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733920" y="1600200"/>
            <a:ext cx="2286000" cy="2133720"/>
          </a:xfrm>
          <a:prstGeom prst="ellipse">
            <a:avLst/>
          </a:prstGeom>
          <a:noFill/>
          <a:ln w="19080">
            <a:solidFill>
              <a:srgbClr val="1c1c1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umulasi Knowled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1219320" y="1676520"/>
            <a:ext cx="2209680" cy="5331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29000" y="1676520"/>
            <a:ext cx="3657600" cy="533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Sci, Tech,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2209680"/>
            <a:ext cx="220968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nibr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2743200"/>
            <a:ext cx="220968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3276720"/>
            <a:ext cx="2209680" cy="5331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29000" y="2209680"/>
            <a:ext cx="36576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Sci, Tech, Medical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2743200"/>
            <a:ext cx="36576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Phil, Religion, Agriculture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3276720"/>
            <a:ext cx="3657600" cy="533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19320" y="3809880"/>
            <a:ext cx="220968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B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29000" y="3809880"/>
            <a:ext cx="36576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Human Right,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343400"/>
            <a:ext cx="220968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astern Un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876920"/>
            <a:ext cx="2209680" cy="5331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5410080"/>
            <a:ext cx="220968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d so 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4343400"/>
            <a:ext cx="36576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Bio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4876920"/>
            <a:ext cx="3657600" cy="533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Agri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410080"/>
            <a:ext cx="36576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And so 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put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-Software server Digital Library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: metadata, naming, submission method, dl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gen pengelola di tiap part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ledgebase: metadata &amp; full text laporan penelitian, tesis dan disertasi dari seluruh partn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aringan Digital Library Internasio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tukaran knowledgebase (laporan penelitian, tesis, dan diserta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ner di luar neger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versitas Groningen, Belanda (proposal in progre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versitas Aalborg, Denmark (potensi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B sebagai hub/gateway untuk Indones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imasi tahun 2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ndidikan Era Bar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7325" t="28734" r="35011" b="12291"/>
          <a:stretch/>
        </p:blipFill>
        <p:spPr>
          <a:xfrm>
            <a:off x="1371600" y="2057400"/>
            <a:ext cx="655308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28600" y="474840"/>
          <a:ext cx="8763120" cy="59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74840"/>
                    <a:ext cx="8763120" cy="59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luang jaringan Internasion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DLTD, National Digital Library of Theses and Dissertation, USA.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ndltd.or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, Australian Digital Theses, UNSW Australia dan 7 universitas partnerny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la Self-Sustain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ding hanya diperlukan diaw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anjutnya pola self-sustainab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 akses ke database meta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kses ke full-teks PDF harus membayar meski murah (20%-40% untuk royalti auth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jualan CD-ROM database meta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ledgebase sebagai modal barter dengan partner internasi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Plagiatis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gan disseminasi yang sangat luas (online internet atau offline CD-ROM)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iap orang akan dengan mudah mengetahui hasil / laporan riset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g setiap plagiat akan mudah dilacak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g keinginan berbuat plagiat semakin keci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: plagiat bukan alasan untuk tidak mempublikasikan hasil riset secara on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rimakasi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2" name="bd05584_" descr=""/>
          <p:cNvPicPr/>
          <p:nvPr/>
        </p:nvPicPr>
        <p:blipFill>
          <a:blip r:embed="rId1"/>
          <a:stretch/>
        </p:blipFill>
        <p:spPr>
          <a:xfrm>
            <a:off x="4194000" y="1752480"/>
            <a:ext cx="3424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arning adalah proses belajar memanfaatkan internet (internet-enabled learning) – Cis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arning memanfaatkan kekuatan jaringan untuk belajar, kapan pun, dimana pun – Arista Knowledg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arning adalah gabungan antara proses belajar dan internet – Bank of Amer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arning adalah dinamis, real time, kolaboratif, individual, dan komprehensif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pektif thd e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ga sudut panda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losof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mpo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Bisn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petif Filosof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mengubah segalanya; pendidikan dan training sedang berubah, radikal – Nicholas Negropo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olusio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amany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 adalah go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bih bersifat sos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rner yang bertanggung jawa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volusion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inscentered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3772080" cy="2705040"/>
          </a:xfrm>
          <a:prstGeom prst="rect">
            <a:avLst/>
          </a:prstGeom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15" name="learnercentered" descr=""/>
          <p:cNvPicPr/>
          <p:nvPr/>
        </p:nvPicPr>
        <p:blipFill>
          <a:blip r:embed="rId2"/>
          <a:stretch/>
        </p:blipFill>
        <p:spPr>
          <a:xfrm>
            <a:off x="3505320" y="3581280"/>
            <a:ext cx="5079960" cy="2718000"/>
          </a:xfrm>
          <a:prstGeom prst="rect">
            <a:avLst/>
          </a:prstGeom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16" name=""/>
          <p:cNvSpPr/>
          <p:nvPr/>
        </p:nvSpPr>
        <p:spPr>
          <a:xfrm rot="1888200">
            <a:off x="3962160" y="2666880"/>
            <a:ext cx="2514600" cy="762120"/>
          </a:xfrm>
          <a:custGeom>
            <a:avLst/>
            <a:gdLst>
              <a:gd name="textAreaLeft" fmla="*/ 439920 w 2514600"/>
              <a:gd name="textAreaRight" fmla="*/ 1823040 w 2514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4120" y="4952880"/>
            <a:ext cx="26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ri berpus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da “instruct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68600" y="2743200"/>
            <a:ext cx="270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 berpusat p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amany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ndidikan berkelanjut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ata 40-tahun (vs 4 tahu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lajar setiap ha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rja menjadi belaj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lajar menjadi ker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k seorang pun pernah seles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00:33:28Z</dcterms:created>
  <dc:creator>Ismail Fahmi</dc:creator>
  <dc:description/>
  <dc:language>en-US</dc:language>
  <cp:lastModifiedBy>Ismail Fahmi</cp:lastModifiedBy>
  <dcterms:modified xsi:type="dcterms:W3CDTF">2000-08-07T02:26:35Z</dcterms:modified>
  <cp:revision>12</cp:revision>
  <dc:subject/>
  <dc:title>Optimalisasi Internet dalam Meningkatkan Mutu Pendidikan</dc:title>
</cp:coreProperties>
</file>