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327-B399-45DD-BAE1-05F9A589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2E1-952C-4765-8867-F4DCACA2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196B-21AB-40C0-B31C-C0E114C7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BF84-CC5E-4217-A394-F6AB9375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7481-D4A4-4A95-9AC4-BA8C0687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5D83-FBF1-45A8-A293-9A91E9E9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44A8-6776-48FA-B991-833619D3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BF71-68B6-4E6C-A247-B83F73AB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5020-12AB-41DC-9B9E-5D69013F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1EE0-21FE-4B14-AD54-1CE105DD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F62A-3BD9-470E-91EF-241CE088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599A-4642-479A-8E1E-89429AC9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CC8C-7E5E-4265-806B-E04EBF9A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44B9-51D4-49E3-A13C-1DECE3E5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6763-BABF-43AE-A6AD-30228823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CBD9-5BCC-4BC9-A1E5-124F0E00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40D8-D944-4FF7-AB6A-94542202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DC0B-4AE2-492A-A91F-2F229C0E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9755-F894-4F36-8AC6-F9BE748C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664C-C4D3-45A7-9DFC-73A244F0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0E51-4B30-4E61-B872-B6F085F7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5837-86AD-4224-99EC-9D6681A7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7924-E081-411C-949D-5114B126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8FB2-909E-4CB5-B835-DA857B1C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9048-08B5-4B62-9686-5672465403D2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FD58-3674-4FB5-8065-4E22A2B198C8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4.wmf"/><Relationship Id="rId3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wmf"/><Relationship Id="rId14" Type="http://schemas.openxmlformats.org/officeDocument/2006/relationships/image" Target="../media/image4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: How It Work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0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28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33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46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62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64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6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169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173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187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93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14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16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218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229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0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1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247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48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49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251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5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3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55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56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66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67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277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278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288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289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299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00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10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11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321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322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325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328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334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335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45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46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56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57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67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70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0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391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94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399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421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422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3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5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5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8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9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455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457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459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60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1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2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9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575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578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0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2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8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4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8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6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8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0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9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9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4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9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6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9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98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599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02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0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4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0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06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10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16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621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62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650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663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665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679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681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8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83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4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685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7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689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690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693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696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02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06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10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21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2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723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24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2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26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727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771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7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3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7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75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9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6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90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15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7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819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820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823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826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32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836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838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3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40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1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842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843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853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854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864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6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868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0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884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887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R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890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893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896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33520" y="13716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905120" y="1981080"/>
            <a:ext cx="1676160" cy="152424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3:26:14Z</dcterms:created>
  <dc:creator>Ismail Fahmi</dc:creator>
  <dc:description/>
  <dc:language>en-US</dc:language>
  <cp:lastModifiedBy>Ismail Fahmi</cp:lastModifiedBy>
  <dcterms:modified xsi:type="dcterms:W3CDTF">2002-03-19T15:04:09Z</dcterms:modified>
  <cp:revision>59</cp:revision>
  <dc:subject/>
  <dc:title>IndonesiaDLN: How It Works?</dc:title>
</cp:coreProperties>
</file>