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7DB2-D15B-444D-B545-5AF66518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C073-354F-4D3A-87E3-21B00D48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09CD-7FC5-4B63-9D08-FEA20F56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6873-7E0C-4C74-BAED-8A855562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7A02-4C7A-4422-B63A-DC2F4845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0341-B87F-440C-AE9E-BF411555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E563-2B3A-4952-B37D-56EF6F4C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FC09-3742-4C58-8FF0-BA65DEA7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A93B-966D-41FF-A9A0-36480B7E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DDCF-EB32-44E7-8C9B-D1834ED7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8535-7107-4088-A4DD-3B1A257D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964A-80B3-46D7-BC5F-DE4A56D1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79D5-942D-4D67-9B6C-EFDC24E5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0F52-19F0-4A17-9BEA-943E4FB6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33AB-B9AC-4FC0-AB64-C8F998E2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2E84-4DA2-4F90-AE32-23D4659B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723E-81FA-4FE3-B867-620BEBA6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81B9-7FFB-4746-9DF2-AF9DB781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7D56-5AFD-4A7A-9468-CAFB9B2F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F2AC-3100-4647-845A-AEC36A3E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AD7E-21A1-41FF-9503-16098CA9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9496-B347-4370-9C8A-1F2E95DF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766B-C6FC-4515-9C05-F74E7B20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88F7-F222-4FE0-81CF-E383F208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259C-488A-45A0-95A8-2BD7AEF05BFE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E43E-0FD4-4F29-BB65-DABC81605FFA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dln.itb.ac.id/" TargetMode="External"/><Relationship Id="rId2" Type="http://schemas.openxmlformats.org/officeDocument/2006/relationships/hyperlink" Target="mailto:Area-technical@idln.itb.ac.id" TargetMode="External"/><Relationship Id="rId3" Type="http://schemas.openxmlformats.org/officeDocument/2006/relationships/hyperlink" Target="mailto:Area-scenario@idln.itb.ac.id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11.wmf"/><Relationship Id="rId14" Type="http://schemas.openxmlformats.org/officeDocument/2006/relationships/image" Target="../media/image12.wmf"/><Relationship Id="rId15" Type="http://schemas.openxmlformats.org/officeDocument/2006/relationships/image" Target="../media/image13.wmf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16.wmf"/><Relationship Id="rId30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Indonesian Digital Library 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ndonesiaDLN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Juli 2001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Kap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canangkan pada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ktober 2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luncurkan pada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uni 2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isiatif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Inisiative bottom-u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ari grass root (awalnya dari universitas, perpustakaan, dan lembaga riset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tuk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mengelol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berbag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lmu pengetahuan bangsa Indonesi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alui sebuah jaringan digital library yang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terdistribu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tersentr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um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forum yang membah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andard metadat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tuk pertukaran informas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kenari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jaringan digital library di Indonesi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eanggota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jaringa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osialisa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rogram jaringan digital libra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temuan partner/konsorsium setiap tah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dimana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kretariat di KMRG, Perpustakaan Pusat IT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pimpin seorang sekjen (Ismail Fahmi, 2000 – sekarang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 site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ing li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Area-technical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  <a:hlinkClick r:id="rId3"/>
              </a:rPr>
              <a:t>Area-scenario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ea-society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ln-announcement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rgabung mailing list, kirim email kosong ke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[nama-mailing-list]-subscribe@idln.itb.ac.i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aringan-2 d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 adalah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network of digital library networ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di Indones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work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Network, menggunakan software GDL (Ganesha Digital Library), dibuat KMRG IT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U-VL, menggunakan software New Spektra, dibuat oleh UK Petra Surabay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lain… (futur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b http://gdlhub.indonesiaDLN.or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60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5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8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94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6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8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201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5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9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u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ringan yang sudah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fully operati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=  GDL-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Spektra (NS) dalam pengembang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jicoba interoperabilitas metada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DL (bi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S (one 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 GDL-Network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= institusi, individu yang memiliki server digital library (GDL) dan bergabung ke IndonesiaDL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saat ini, terhubu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B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pustakaan Pus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pt Biologi (in progre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sca Sarjana ITB (in progre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versitas Syah Kuala Banda Ace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 GDL-Network [2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65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njutan, terhubung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MA IP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Muhammadiyah Mala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dan Litbang Kesehatan Depkes Jk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Bina Nusanta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Atmajaya Jk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Sam Ratulangi Man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Haluoleo Kenda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AIN Yogyakar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Cendrawasih Irian Jay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SM Dana Mitra Lingkung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1981080"/>
            <a:ext cx="3581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rinstall, belum terhubu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mbaga Pendidikan Al-Azhar J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r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rdaftar, belum terhubu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Bhayangkara Surabay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 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 = pemakai, pengguna, anggota yang mendaftar ke server-server GD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 terdaftar di GDL Hub sekitar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3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ang, sebagian besar dari Indonesia, dan sebagian dari Luar Neger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capan 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Fund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RC, International Development Research Centre (Canad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LTI, Yayasan Litbang Telekomunikasi dan Informat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upport in-kin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Pusat IT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3/ITB, Asian Internet Interconnection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NRG, Computer Network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MRG, Knowledge Management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272320" y="2844720"/>
            <a:ext cx="467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sama-sama membang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Knowledgebase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bd06662_" descr=""/>
          <p:cNvPicPr/>
          <p:nvPr/>
        </p:nvPicPr>
        <p:blipFill>
          <a:blip r:embed="rId1"/>
          <a:stretch/>
        </p:blipFill>
        <p:spPr>
          <a:xfrm>
            <a:off x="2971800" y="2049480"/>
            <a:ext cx="3505320" cy="31021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17524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necting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5812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ople’s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581280" y="90648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nowledge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905120" y="1897200"/>
            <a:ext cx="5029200" cy="3504600"/>
            <a:chOff x="1905120" y="1897200"/>
            <a:chExt cx="5029200" cy="3504600"/>
          </a:xfrm>
        </p:grpSpPr>
        <p:sp>
          <p:nvSpPr>
            <p:cNvPr id="238" name=""/>
            <p:cNvSpPr/>
            <p:nvPr/>
          </p:nvSpPr>
          <p:spPr>
            <a:xfrm>
              <a:off x="1981080" y="2049480"/>
              <a:ext cx="2286000" cy="10666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905120" y="3725640"/>
              <a:ext cx="1981080" cy="228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209680" y="3954240"/>
              <a:ext cx="1828800" cy="1447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4571640" y="4030200"/>
              <a:ext cx="304920" cy="12956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5409720" y="3877920"/>
              <a:ext cx="1219320" cy="12193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410080" y="3573360"/>
              <a:ext cx="1524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257440" y="1897200"/>
              <a:ext cx="1523880" cy="12189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36760" y="525600"/>
            <a:ext cx="1669680" cy="1870920"/>
            <a:chOff x="536760" y="525600"/>
            <a:chExt cx="1669680" cy="1870920"/>
          </a:xfrm>
        </p:grpSpPr>
        <p:pic>
          <p:nvPicPr>
            <p:cNvPr id="246" name="pe02043_" descr=""/>
            <p:cNvPicPr/>
            <p:nvPr/>
          </p:nvPicPr>
          <p:blipFill>
            <a:blip r:embed="rId8"/>
            <a:stretch/>
          </p:blipFill>
          <p:spPr>
            <a:xfrm>
              <a:off x="853920" y="525600"/>
              <a:ext cx="9918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36760" y="193680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e/Schoo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60800" y="2278080"/>
            <a:ext cx="1383840" cy="1718640"/>
            <a:chOff x="460800" y="2278080"/>
            <a:chExt cx="1383840" cy="1718640"/>
          </a:xfrm>
        </p:grpSpPr>
        <p:pic>
          <p:nvPicPr>
            <p:cNvPr id="249" name="pe02716_" descr=""/>
            <p:cNvPicPr/>
            <p:nvPr/>
          </p:nvPicPr>
          <p:blipFill>
            <a:blip r:embed="rId9"/>
            <a:stretch/>
          </p:blipFill>
          <p:spPr>
            <a:xfrm>
              <a:off x="549360" y="2278080"/>
              <a:ext cx="129528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60800" y="353700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dic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90720" y="5438880"/>
            <a:ext cx="1295280" cy="1413720"/>
            <a:chOff x="990720" y="5438880"/>
            <a:chExt cx="1295280" cy="1413720"/>
          </a:xfrm>
        </p:grpSpPr>
        <p:pic>
          <p:nvPicPr>
            <p:cNvPr id="252" name="bd06529_" descr=""/>
            <p:cNvPicPr/>
            <p:nvPr/>
          </p:nvPicPr>
          <p:blipFill>
            <a:blip r:embed="rId10"/>
            <a:stretch/>
          </p:blipFill>
          <p:spPr>
            <a:xfrm>
              <a:off x="990720" y="5438880"/>
              <a:ext cx="129528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357200" y="63928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por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040640" y="5362560"/>
            <a:ext cx="1383120" cy="1490040"/>
            <a:chOff x="4040640" y="5362560"/>
            <a:chExt cx="1383120" cy="1490040"/>
          </a:xfrm>
        </p:grpSpPr>
        <p:pic>
          <p:nvPicPr>
            <p:cNvPr id="255" name="pe01753_" descr=""/>
            <p:cNvPicPr/>
            <p:nvPr/>
          </p:nvPicPr>
          <p:blipFill>
            <a:blip r:embed="rId11"/>
            <a:stretch/>
          </p:blipFill>
          <p:spPr>
            <a:xfrm>
              <a:off x="4282920" y="5362560"/>
              <a:ext cx="879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040640" y="639288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w/Go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769440" y="4869000"/>
            <a:ext cx="1838880" cy="1642320"/>
            <a:chOff x="6769440" y="4869000"/>
            <a:chExt cx="1838880" cy="1642320"/>
          </a:xfrm>
        </p:grpSpPr>
        <p:pic>
          <p:nvPicPr>
            <p:cNvPr id="258" name="pe07677_" descr=""/>
            <p:cNvPicPr/>
            <p:nvPr/>
          </p:nvPicPr>
          <p:blipFill>
            <a:blip r:embed="rId12"/>
            <a:stretch/>
          </p:blipFill>
          <p:spPr>
            <a:xfrm>
              <a:off x="6781680" y="4869000"/>
              <a:ext cx="12924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769440" y="6051600"/>
              <a:ext cx="18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niv/Res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860160" y="1897200"/>
            <a:ext cx="2078280" cy="1374120"/>
            <a:chOff x="6860160" y="1897200"/>
            <a:chExt cx="2078280" cy="1374120"/>
          </a:xfrm>
        </p:grpSpPr>
        <p:pic>
          <p:nvPicPr>
            <p:cNvPr id="261" name="en00349_" descr=""/>
            <p:cNvPicPr/>
            <p:nvPr/>
          </p:nvPicPr>
          <p:blipFill>
            <a:blip r:embed="rId13"/>
            <a:stretch/>
          </p:blipFill>
          <p:spPr>
            <a:xfrm>
              <a:off x="7162920" y="1897200"/>
              <a:ext cx="16002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60160" y="28116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tertain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095880" y="372960"/>
            <a:ext cx="1800000" cy="1602720"/>
            <a:chOff x="6095880" y="372960"/>
            <a:chExt cx="1800000" cy="1602720"/>
          </a:xfrm>
        </p:grpSpPr>
        <p:pic>
          <p:nvPicPr>
            <p:cNvPr id="264" name="pe01561_" descr=""/>
            <p:cNvPicPr/>
            <p:nvPr/>
          </p:nvPicPr>
          <p:blipFill>
            <a:blip r:embed="rId14"/>
            <a:stretch/>
          </p:blipFill>
          <p:spPr>
            <a:xfrm>
              <a:off x="6095880" y="372960"/>
              <a:ext cx="175896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480720" y="151596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usin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320600" y="3268800"/>
            <a:ext cx="1278000" cy="1490040"/>
            <a:chOff x="7320600" y="3268800"/>
            <a:chExt cx="1278000" cy="1490040"/>
          </a:xfrm>
        </p:grpSpPr>
        <p:pic>
          <p:nvPicPr>
            <p:cNvPr id="267" name="kyai" descr=""/>
            <p:cNvPicPr/>
            <p:nvPr/>
          </p:nvPicPr>
          <p:blipFill>
            <a:blip r:embed="rId15"/>
            <a:stretch/>
          </p:blipFill>
          <p:spPr>
            <a:xfrm>
              <a:off x="7331040" y="3268800"/>
              <a:ext cx="109080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7320600" y="4299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li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31840" y="3954600"/>
            <a:ext cx="1636200" cy="1526400"/>
            <a:chOff x="231840" y="3954600"/>
            <a:chExt cx="1636200" cy="1526400"/>
          </a:xfrm>
        </p:grpSpPr>
        <p:pic>
          <p:nvPicPr>
            <p:cNvPr id="270" name="bd05158_" descr=""/>
            <p:cNvPicPr/>
            <p:nvPr/>
          </p:nvPicPr>
          <p:blipFill>
            <a:blip r:embed="rId16"/>
            <a:stretch/>
          </p:blipFill>
          <p:spPr>
            <a:xfrm>
              <a:off x="380880" y="3954600"/>
              <a:ext cx="121932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231840" y="502128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194640" y="4038480"/>
            <a:ext cx="28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Knowledge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306240" y="288432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7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97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99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301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0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1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312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328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330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3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32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334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3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36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7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338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339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349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350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60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61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71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72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82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83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93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94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404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405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408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411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417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418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428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429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439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440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450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53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3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74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77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82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504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505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6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8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8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9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1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2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5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538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39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40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542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4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44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68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7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9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636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6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58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61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3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5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6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7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9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1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3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7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5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76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7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78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9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80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1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82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85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86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7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88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89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93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99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704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11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734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736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5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46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747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9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63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65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6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7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68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69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1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73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74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77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80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86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90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94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95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4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805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6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807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08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0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10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811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855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5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57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5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9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1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3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0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72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98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0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902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903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906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909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915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919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0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921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2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23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925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926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936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937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947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9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951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5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3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1207440" y="2786040"/>
            <a:ext cx="64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gaimana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Departeme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i IT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sa Bergabu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lternatif Bergabung Bagi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Departem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anfa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rver GDL PP IT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sendiri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rver GDL di Departe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anfaatkan Server GDL PP IT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untung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menyediakan ser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biaya instalasi dan mainten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SDM Administrator ser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pat dimulai dengan Cep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any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njuk staff departemen yang akan menjadi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EDITO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tak Perpustakaan Pusat ITB untuk mendapatkan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Training Editor GD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gratis). Koordinasi, registrasi, dan akses ke GDL akan dilakukan selama Train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lai upload abstrak dan full content dari departemen masing-mas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s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osofi Das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gaimana Bergab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"/>
          <p:cNvSpPr/>
          <p:nvPr/>
        </p:nvSpPr>
        <p:spPr>
          <a:xfrm>
            <a:off x="1530720" y="1905120"/>
            <a:ext cx="389916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L = http://digilib.itb.ac.id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633680" y="2666880"/>
            <a:ext cx="288540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i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tance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-Boo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ination Mater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ertise 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235480" y="2666880"/>
            <a:ext cx="244044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u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ce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b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earch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1-Final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2-Master The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3-PhD 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181480" y="4191120"/>
            <a:ext cx="24386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477120" y="5181480"/>
            <a:ext cx="182880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869" y="-14980"/>
                </a:moveTo>
                <a:lnTo>
                  <a:pt x="-900" y="2724"/>
                </a:lnTo>
              </a:path>
              <a:path w="21600" h="21600">
                <a:moveTo>
                  <a:pt x="-900" y="0"/>
                </a:moveTo>
                <a:lnTo>
                  <a:pt x="-9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oh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528200" y="541008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oot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2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520280" y="1952640"/>
            <a:ext cx="699912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32240" y="2666880"/>
            <a:ext cx="2856600" cy="1313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trono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i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ectrical Engine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600200" y="297180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733920" y="4191120"/>
            <a:ext cx="40384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41" y="-21297"/>
                </a:moveTo>
                <a:lnTo>
                  <a:pt x="-408" y="2724"/>
                </a:lnTo>
              </a:path>
              <a:path w="21600" h="21600">
                <a:moveTo>
                  <a:pt x="-408" y="0"/>
                </a:moveTo>
                <a:lnTo>
                  <a:pt x="-40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oh, Sub kategor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epartemen Biolog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582560" y="2666880"/>
            <a:ext cx="861840" cy="1923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600200" y="2971800"/>
            <a:ext cx="8380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276720" y="4191120"/>
            <a:ext cx="49528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21" y="-21297"/>
                </a:moveTo>
                <a:lnTo>
                  <a:pt x="-332" y="2724"/>
                </a:lnTo>
              </a:path>
              <a:path w="21600" h="21600">
                <a:moveTo>
                  <a:pt x="-332" y="0"/>
                </a:moveTo>
                <a:lnTo>
                  <a:pt x="-332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oleksi Tesis Master Departemen Biologi tahun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1998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rcRect l="1187" t="23862" r="3998" b="4576"/>
          <a:stretch/>
        </p:blipFill>
        <p:spPr>
          <a:xfrm>
            <a:off x="1523880" y="274320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1523880" y="2743200"/>
            <a:ext cx="5867640" cy="1447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257800" y="5334120"/>
            <a:ext cx="28954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993" y="-53025"/>
                </a:moveTo>
                <a:lnTo>
                  <a:pt x="-568" y="540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Lihat detail abstr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2" name="" descr=""/>
          <p:cNvPicPr/>
          <p:nvPr/>
        </p:nvPicPr>
        <p:blipFill>
          <a:blip r:embed="rId1"/>
          <a:srcRect l="3707" t="11080" r="7269" b="4592"/>
          <a:stretch/>
        </p:blipFill>
        <p:spPr>
          <a:xfrm>
            <a:off x="2895480" y="457200"/>
            <a:ext cx="5715000" cy="594360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368280" y="57312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 Abstr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048120" y="2743200"/>
            <a:ext cx="52578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28600" y="5029200"/>
            <a:ext cx="33526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773" y="-90975"/>
                </a:moveTo>
                <a:lnTo>
                  <a:pt x="22091" y="5400"/>
                </a:lnTo>
              </a:path>
              <a:path w="21600" h="21600">
                <a:moveTo>
                  <a:pt x="22091" y="0"/>
                </a:moveTo>
                <a:lnTo>
                  <a:pt x="22091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wnload full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sang server GDL sendiri di departem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software GDL, download free di http://gdl.itb.ac.id/download, atau pesan CD-ROM ke 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i form registrasi untuk Institusi, kirim ke KMR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las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ree, install sendir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au butuh bantuan dan training, hubungi KMR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abstrak dan full content ke server lokal, dan share ke IndonesiaDLN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abstrak dari knowledgebase IndonesiaDLN, secara otomatis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rver GDL Departem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elah Registras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dapat Publisher ID,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JBPTITB**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iliki server sendiri dg alamat http://digilib.**.itb.ac.i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**=EL, BI, MS, et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r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baiknya memiliki SDM Admin yang bisa mengelola server GDL Departemen untuk maintenan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min perlu selalu koordinasi dengan KMRG ITB untuk maintenance dan troubleshoot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GDL Headquarter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nk ke knowledgebase partner 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"/>
          <p:cNvSpPr/>
          <p:nvPr/>
        </p:nvSpPr>
        <p:spPr>
          <a:xfrm>
            <a:off x="675360" y="1716120"/>
            <a:ext cx="77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http://gdlhub.indonesiaDLN.org/go.php?top=/*Institu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8288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3" name="gdlhub1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gaimana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</a:rPr>
              <a:t>Mahasiswa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isa Sharing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angkah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istrasi online &amp; free menjadi member d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HUB, http://gdlhub.indonesiaDLN.or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au ke server digital library lokal (milik institusi/departeme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&amp; share abstrak dan full content dari paper, laporan penelitian, dll An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al Directory And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http://[server]/go.php?top=/Member/email@anda.com/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emudi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rver otomatis akan menyebarkan ke IndonesiaDLN 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tribusi Anda segera bisa di-AKSES secara lu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2355480" y="3063960"/>
            <a:ext cx="449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ncana IndonesiaD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ata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s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BERBEDA 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koleksi full resources (dokumen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hanya database bibliografi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alog Online biasanya berhubungan deng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ibrary Autom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mbangun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gital Heritage Networ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tuk membantu otonomi daerah dan pemanfaatan budaya bang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si dengan jaringan informasi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mall and Medium Enterpri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SM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Memanfaatk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knowledgebase aset ilmu pengetahuan dan budaya bangsa di IndonesiaDLN dengan berbagai media kreatif (CD-ROM, VCD, Multimedia, e-learning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tional Collaboration: NDLTD, ADT, APAN,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013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1016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R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019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022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025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gital Library Network di dun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DLTD, Networked Digital Library of Theses and Dissertation, Virginia, member 80++ universitas di dunia, http://www.ndltd.or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T, Australian Digital Theses. Member 7 universitas besar di Australia, http://adt.caul.edu.au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, di Indonesia, didesain khusus untuk negara berkembang, http://gdlhub.indonesiaDLN.or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RL Pent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web site; Mailing list; technical, scenario, society, announcement; standard,  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ntang GDL, registrasi, bergabung, patch, download, dll, http://gdlhub.indonesiaDLN.org/faqgdl.ph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GDL source code for free, http://gdl.itb.ac.id/download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HUB, http://gdlhub.indonesiaDL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ITB, http://digi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tak KMRG: 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2153160" y="2565360"/>
            <a:ext cx="454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Terima kasi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The Indonesian “mother” network, a network of networks – The IndonesiaDLN, Indonesian Digital Library Net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Maria Ng Lee Hoon, Senior Regional Program Officer IDRC, Singapo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14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55760" y="1809720"/>
            <a:ext cx="618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epas kunci/borgol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KS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erhadap kekayaan Ilmu Pengetahuan bangsa Indone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ateg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Network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melalui sebuah jaringan digital library 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tribu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tiap orang/institusi mengelola sendiri kekayaan intelektualny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Unifi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luruh koleksi disatuk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semin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luruh koleksi disebark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Standardiz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menggunakan standard metadata inter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Ma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mber informasi yang akan dikelola dan disebarkan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bstra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ful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ri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LOCA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iput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poran Peneliti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gas Akhir, Tesis, Diser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kel, paper, proceeding, 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, e-learning material, course ma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liping, Heritage, Multimedia, direktori expert, d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Sourc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mbaga Penelit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mbaga Pemerintah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sn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group, TK, SD, SMP, 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santren, Masjid, Lembaga Keagam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sasi Masyara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1T23:50:29Z</dcterms:created>
  <dc:creator>Ismail Fahmi</dc:creator>
  <dc:description/>
  <dc:language>en-US</dc:language>
  <cp:lastModifiedBy>Ismail Fahmi</cp:lastModifiedBy>
  <dcterms:modified xsi:type="dcterms:W3CDTF">2001-07-17T00:58:25Z</dcterms:modified>
  <cp:revision>75</cp:revision>
  <dc:subject/>
  <dc:title>Digital Library Network dan  Riset Nasional</dc:title>
</cp:coreProperties>
</file>