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DBF8-C6CD-4B31-AD77-B077ACA8C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97A9-61CC-4886-BDFD-91F3A332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0CCB-1941-450C-AF2C-F441E6D28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6399-00B1-40B8-824F-AE7993C1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3A99-0F4A-471E-BC66-58E6F4322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D479-6629-4388-B73C-8D964B1A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0C1C-AA51-44F8-B58A-9689B2B0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0C7B-E920-4356-B704-4FC2519D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517D-AD62-40A7-ADD3-D0FE6A1E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F7C1-3876-4055-AE7D-A11492BD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A906-DAA1-4639-BF2B-62AC4CC7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FD89-BD19-470B-BCB3-F412213F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0824-3B4E-4FA0-A92E-0FB654F6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6822-76CC-417D-8B47-C6E0E21C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EBB6-4DFE-44A5-B480-611251FA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1E98-ECD0-4650-80D4-262164C44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A0B9-D3CA-4FA2-A4CF-9373C430E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BE45-CB5B-43AF-9719-B8F38CE7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7A2F-7967-48BB-BD2A-78EC85F9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5CCD-0983-45B1-B00C-3E42DAE2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21C6-954C-410E-8ADE-CD93D326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0CB3-0517-496F-AC98-41BA2A84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F157-F0B5-42B8-B917-8176A802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3066-63B7-47B4-87F4-B61A62F8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0A69-E3C0-4819-8823-774BF396633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C6A2-2A56-4C87-9490-5B9508D81B9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2590920"/>
            <a:ext cx="8458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IAP STASIUN RADIO HARUS MEMILIKI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ALL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4114800"/>
            <a:ext cx="8686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IAP PANCARAN RADIO HARUS SELALU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NYEBUTKAN CALLSIGN DENGAN LENGKAP DALAM INTERVAL PEND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57780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ALLSIGN = NAMA PANGGIL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5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8600" y="2514600"/>
            <a:ext cx="86868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8880" y="2133720"/>
            <a:ext cx="1676520" cy="449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86400" y="2133720"/>
            <a:ext cx="1676520" cy="449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95680" y="1752480"/>
            <a:ext cx="94788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3240" y="1752480"/>
            <a:ext cx="209052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1752480"/>
            <a:ext cx="205740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2590920"/>
            <a:ext cx="8686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NGKULU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4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MA - R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M - Z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MAA - PZZ          ZMA - ZR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A - YZ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175248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PROPINSI               PREFIX                WRA                     SUFFIX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IAR             IAR KHU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1752480"/>
            <a:ext cx="3429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35812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MPUNG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4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SA - Y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S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SAA - YZZ          ZS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350532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42670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MBA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5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M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MZZ          ZAA - ZM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419112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4952880"/>
            <a:ext cx="8686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IAU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NA - 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N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NAA - PZZ          ZN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A - YZ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4876920"/>
            <a:ext cx="8686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598644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.A.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G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GZZ          ZAA - ZG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28600" y="2514600"/>
            <a:ext cx="86868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238880" y="2133720"/>
            <a:ext cx="1676520" cy="449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486400" y="2133720"/>
            <a:ext cx="1676520" cy="449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495680" y="1752480"/>
            <a:ext cx="94788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43240" y="1752480"/>
            <a:ext cx="209052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" y="1752480"/>
            <a:ext cx="205740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2590920"/>
            <a:ext cx="8686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M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6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HA - R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H - Z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HAA - PZZ          ZHA - ZR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A - YZ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52280" y="175248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PROPINSI               PREFIX                WRA                     SUFFIX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IAR             IAR KHU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86400" y="1752480"/>
            <a:ext cx="3429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35812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BA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YH, YD, YC, YB           7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G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GZZ          ZAA - ZG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50532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42670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SE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YH, YD, YC, YB           7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HA - N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H - Z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HAA - NZZ          ZHA - ZN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419112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4952880"/>
            <a:ext cx="8686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TENG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OA - T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O - Z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OAA - PZZ          ZOA - ZT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A - TZ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4876920"/>
            <a:ext cx="8686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598644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TIM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UA - Y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U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UAA - YZZ          ZU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28600" y="251460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8880" y="2133720"/>
            <a:ext cx="1676520" cy="388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486400" y="2133720"/>
            <a:ext cx="1676520" cy="388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495680" y="1752480"/>
            <a:ext cx="947880" cy="426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43240" y="1752480"/>
            <a:ext cx="2090520" cy="426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1752480"/>
            <a:ext cx="2057400" cy="426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25909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LSE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H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HZZ          ZHA - Z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52280" y="175248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PROPINSI               PREFIX                WRA                     SUFFIX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IAR             IAR KHU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486400" y="1752480"/>
            <a:ext cx="3429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32767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LTR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8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IA - L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 - Z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IAA - LZZ          ZIA - ZL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" y="320040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46483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A - S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L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8            RAA - SZZ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" y="4572000"/>
            <a:ext cx="8686800" cy="144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8600" y="53341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TA – U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ZQ - Z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A – U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QA - ZU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86000" y="525780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486400" y="525780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39574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LTENG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8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MA - PZ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M - Z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MAA - PZZ          ZMA - ZP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7238880" y="2133720"/>
            <a:ext cx="16765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486400" y="2133720"/>
            <a:ext cx="16765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1752480"/>
            <a:ext cx="947880" cy="4724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343240" y="1752480"/>
            <a:ext cx="2090520" cy="4724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" y="1752480"/>
            <a:ext cx="2057400" cy="4724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2280" y="175248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PROPINSI               PREFIX                WRA                     SUFFIX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IAR             IAR KHU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486400" y="1752480"/>
            <a:ext cx="3429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38815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A - W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LUKU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8            VAA - WZZ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2514600"/>
            <a:ext cx="8686800" cy="1295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" y="45673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XA - Y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V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AA - YZZ          ZV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0" y="320040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486400" y="320040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25621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A – S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Q - Z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RONTAL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G, YF,Y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8            RAA - SZZ          ZQA - ZU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920" y="321480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H, 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TA - U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A -U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86000" y="44956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86400" y="449568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28600" y="5181480"/>
            <a:ext cx="8686800" cy="129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4920" y="52531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A - W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ZV - 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LUKU UTARA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8            VAA - WZZ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ZVA - Z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5867280"/>
            <a:ext cx="8686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H, 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XA – Y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XAA - Y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58672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486400" y="586728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28600" y="251460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238880" y="2133720"/>
            <a:ext cx="1676520" cy="32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486400" y="2133720"/>
            <a:ext cx="1676520" cy="32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95680" y="1752480"/>
            <a:ext cx="947880" cy="3657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43240" y="1752480"/>
            <a:ext cx="2090520" cy="3657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" y="1752480"/>
            <a:ext cx="2057400" cy="3657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4920" y="25909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L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9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F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FZZ          ZAA - ZF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52280" y="175248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PROPINSI               PREFIX                WRA                     SUFFIX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IAR             IAR KHU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86400" y="1752480"/>
            <a:ext cx="3429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32767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.T.B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9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GA - K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 - Z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GAA - KZZ         ZGA - ZK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320040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04920" y="46483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H, YD, YC, YB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9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QA - Y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ZQ - 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PU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RAA - YZZ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ZQA - Z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28600" y="4572000"/>
            <a:ext cx="868680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39574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.T.T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9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LA - PZ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L - Z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LAA - PZZ          ZLA - ZP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ALLSIGN AMATIR RADIO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SUSUN DALAM BENTUK KOMBINASI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URUF DAN ANG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LAM SATU KESATUAN YANG TERDIRI ATA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EFIX &amp; SUFF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403848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FI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NJELASKAN LOKASI (NEGARA &amp; W.R.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FFI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LENGKAPAN PREFIX UNTU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NJELASKAN PEMILIK STASI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590920" y="3505320"/>
            <a:ext cx="5943600" cy="1218960"/>
          </a:xfrm>
          <a:prstGeom prst="rect">
            <a:avLst/>
          </a:prstGeom>
          <a:solidFill>
            <a:srgbClr val="3333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4800600"/>
            <a:ext cx="6782040" cy="1600200"/>
          </a:xfrm>
          <a:prstGeom prst="rect">
            <a:avLst/>
          </a:prstGeom>
          <a:solidFill>
            <a:srgbClr val="3333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8229600" cy="19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Tahoma"/>
              </a:rPr>
              <a:t>YB</a:t>
            </a:r>
            <a:r>
              <a:rPr b="1" lang="en-US" sz="8000" spc="-1" strike="noStrike">
                <a:solidFill>
                  <a:srgbClr val="3333ff"/>
                </a:solidFill>
                <a:latin typeface="Tahoma"/>
                <a:ea typeface="Arial"/>
              </a:rPr>
              <a:t>ØCAK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ALLSIGN AMATIR RADIO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71800" y="585144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JELASKAN NEGARA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DONE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71800" y="547056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JELASKAN W.R.A     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JAKAR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417528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JELASKAN PEMILIK STASIUN RAD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6019920"/>
            <a:ext cx="20098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3352680"/>
            <a:ext cx="0" cy="2286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905120" y="5633640"/>
            <a:ext cx="914400" cy="4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419040" y="262908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3124080" y="2438280"/>
            <a:ext cx="457200" cy="1981080"/>
          </a:xfrm>
          <a:custGeom>
            <a:avLst/>
            <a:gdLst>
              <a:gd name="textAreaLeft" fmla="*/ 292320 w 457200"/>
              <a:gd name="textAreaRight" fmla="*/ 457560 w 45720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3505320"/>
            <a:ext cx="0" cy="2514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36576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4800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EF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77120" y="3581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FF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2133720"/>
            <a:ext cx="46483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r. Iskandar A.Q. SALE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omp. PLN Duren Tiga, Jl, Jatiluhur no.34. JAKARTA 12760 - INDONE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35053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590920" y="3505320"/>
            <a:ext cx="5943600" cy="1218960"/>
          </a:xfrm>
          <a:prstGeom prst="rect">
            <a:avLst/>
          </a:prstGeom>
          <a:solidFill>
            <a:srgbClr val="3333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4800600"/>
            <a:ext cx="6782040" cy="1600200"/>
          </a:xfrm>
          <a:prstGeom prst="rect">
            <a:avLst/>
          </a:prstGeom>
          <a:solidFill>
            <a:srgbClr val="3333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ALLSIGN AMATIR RADIO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585144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JELASKAN NEGARA = INDONE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547056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JELASKAN W.R.A      = JAWA BAR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71800" y="417528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JELASKAN PEMILIK STASIUN RAD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47760" y="6019920"/>
            <a:ext cx="14479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3352680"/>
            <a:ext cx="0" cy="2286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286000" y="5633640"/>
            <a:ext cx="533520" cy="4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1062000" y="270504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3047760" y="2819160"/>
            <a:ext cx="457200" cy="1219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66480" y="3733920"/>
            <a:ext cx="28440" cy="2286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36576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4800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EF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3581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FF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81480" y="2133720"/>
            <a:ext cx="32767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TONI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7 RUA AGUSTA        SAO PAULO - BRAZ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196524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Arial"/>
              </a:rPr>
              <a:t>YB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198108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98108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Arial"/>
              </a:rPr>
              <a:t>PR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5851440"/>
            <a:ext cx="198108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RAZ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5491080"/>
            <a:ext cx="198108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O PAU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10405E-006 L 0.22916 0.00671 E">
                                      <p:cBhvr>
                                        <p:cTn id="112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6.93642E-007 L -0.21666 6.93642E-007 E">
                                      <p:cBhvr>
                                        <p:cTn id="114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3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2598840"/>
            <a:ext cx="89154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a500"/>
                </a:solidFill>
                <a:latin typeface="Tahoma"/>
              </a:rPr>
              <a:t>TINGKATAN / CLAS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Y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emula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= No Code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YD &amp; YG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aga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= Novice   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YC &amp; YF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enggalang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= General  Clas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YB &amp; Y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enegak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= Advance Clas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97488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Tahoma"/>
              </a:rPr>
              <a:t>INDONES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19051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FI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8458200" cy="42242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259884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WILAYAH RADIO AMATIR = CALL AREA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62320" y="97488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Tahoma"/>
              </a:rPr>
              <a:t>INDONES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19051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FI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800"/>
                            </p:stCondLst>
                            <p:childTnLst>
                              <p:par>
                                <p:cTn id="15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19051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UFFI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25909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c06"/>
                </a:solidFill>
                <a:latin typeface="Tahoma"/>
              </a:rPr>
              <a:t>A s/d Z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AR KHUSUS dgn rekomendasi ORARI Pus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3505320"/>
            <a:ext cx="6781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c06"/>
                </a:solidFill>
                <a:latin typeface="Tahoma"/>
              </a:rPr>
              <a:t>ZA s/d ZZ   &amp;   ZAA s/d ZZZ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AR KHU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5484960"/>
            <a:ext cx="853416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90319"/>
                </a:solidFill>
                <a:latin typeface="Tahoma"/>
              </a:rPr>
              <a:t>QAA s/d QZZ, SOS, TTT, XXX, DDD</a:t>
            </a:r>
            <a:r>
              <a:rPr b="1" lang="en-US" sz="3200" spc="-1" strike="noStrike">
                <a:solidFill>
                  <a:srgbClr val="e90319"/>
                </a:solidFill>
                <a:latin typeface="Tahoma"/>
              </a:rPr>
              <a:t>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IDAK DIALOKASI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4465800"/>
            <a:ext cx="8610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c06"/>
                </a:solidFill>
                <a:latin typeface="Tahoma"/>
              </a:rPr>
              <a:t>AA s/d AZ,  AAA s/d PZZ,  RAA s/d YZZ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AR PERORANG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8600" y="2514600"/>
            <a:ext cx="86868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38880" y="2133720"/>
            <a:ext cx="1676520" cy="449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86400" y="2133720"/>
            <a:ext cx="1676520" cy="449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95680" y="1752480"/>
            <a:ext cx="94788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343240" y="1752480"/>
            <a:ext cx="209052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1752480"/>
            <a:ext cx="205740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2590920"/>
            <a:ext cx="8686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KART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PZZ          ZA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A - YZ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175248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PROPINSI               PREFIX                WRA                     SUFFIX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IAR             IAR KHU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86400" y="1752480"/>
            <a:ext cx="3429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35812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BA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Q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PZZ          ZAA - ZQ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350532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42670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TE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RA - Y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R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RAA - YZZ          ZR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419112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4952880"/>
            <a:ext cx="8686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TENG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PZZ          ZAA - ZT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A - TZ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4876920"/>
            <a:ext cx="8686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598644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I.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UA - Y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U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UAA - YZZ          ZU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28600" y="2514600"/>
            <a:ext cx="86868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238880" y="2133720"/>
            <a:ext cx="1676520" cy="472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2133720"/>
            <a:ext cx="1676520" cy="472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1752480"/>
            <a:ext cx="947880" cy="510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343240" y="1752480"/>
            <a:ext cx="2090520" cy="510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1752480"/>
            <a:ext cx="2057400" cy="510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2590920"/>
            <a:ext cx="8686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TIM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PZZ          ZA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A - YZ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175248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PROPINSI               PREFIX                WRA                     SUFFIX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IAR             IAR KHU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86400" y="1752480"/>
            <a:ext cx="3429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35812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MB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4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E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EZZ          ZAA - Z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350532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42670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FA - I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MSE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4            FAA - IZZ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" y="4191120"/>
            <a:ext cx="8686800" cy="1295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490536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JA - L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F - Z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A - LZZ          ZFA - ZL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0" y="484812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86400" y="48481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5486400"/>
            <a:ext cx="868680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551016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FA - I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F - Z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BE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4            FAA - IZZ          ZFA - Z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61675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H, 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JA - L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A - L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0" y="60958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86400" y="609588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6T04:32:59Z</dcterms:created>
  <dc:creator>.</dc:creator>
  <dc:description/>
  <dc:language>en-US</dc:language>
  <cp:lastModifiedBy>Ir. Iskandar A.Q. SALEH</cp:lastModifiedBy>
  <dcterms:modified xsi:type="dcterms:W3CDTF">2004-05-07T05:10:28Z</dcterms:modified>
  <cp:revision>9</cp:revision>
  <dc:subject/>
  <dc:title>Slide 1</dc:title>
</cp:coreProperties>
</file>