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3FC2-EACC-4D33-AC2A-37A56C43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6708-9B49-4AA9-8A83-32F25E2E2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973A-BCF1-425E-B352-752DF8FDB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130C-E93A-4266-9DE9-5AB7D1B61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1AEF-BE8B-4E66-8BBC-590B4D57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EAC-2028-4C5F-BE39-8369F5060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0EB5-2683-4236-B832-68149CF92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61C5-37FA-4450-8B64-E0EBDEF3D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8DBB-3D9B-44F8-962B-1754A75D9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37B4-0A9F-4970-813C-28A8808E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0BE1-481B-4BA5-A7C1-1C7AF2B4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DDB3-85E1-42AD-AE5A-EA6A61BB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E7FE-646E-4A57-B894-B653F08578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295280" y="5333760"/>
            <a:ext cx="64771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Internet Linking for Amateur Radi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311040" y="309600"/>
            <a:ext cx="8390160" cy="5823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7621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LinkingExample" descr=""/>
          <p:cNvPicPr/>
          <p:nvPr/>
        </p:nvPicPr>
        <p:blipFill>
          <a:blip r:embed="rId1"/>
          <a:stretch/>
        </p:blipFill>
        <p:spPr>
          <a:xfrm>
            <a:off x="1600200" y="1073160"/>
            <a:ext cx="5943600" cy="4048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2286000" y="761760"/>
            <a:ext cx="464832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ahoma"/>
              </a:rPr>
              <a:t>EchoLink</a:t>
            </a:r>
            <a:endParaRPr b="0" lang="en-US" sz="72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Repeat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2" name="EchoLink_Mike_Joe_Sam_Repeat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ringing it all Togethe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75" name="EchoLink3_TheWholeGroup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49288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art 97 Link Require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implex link and Repeater link as depicted here require a control operator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 Link is installed at the repeater side, it becomes a part of the repeater, and can then run in “automatic control”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9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nd now -- The Software…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86040" y="2362320"/>
            <a:ext cx="3048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re is the main Screen, listing the Stations currently on the Link, by Country, Call Zone et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Bottom of the Screen shows the current Transmit and Receive Audio levels in a colored bar graphi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echolink_screenshot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5029200" cy="32068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asic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181480" y="2437920"/>
            <a:ext cx="335304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first thing to do after installing the software is to configure your Station Set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EL_InitialSetup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4343400" cy="3260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480" y="525780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The first time you use Echolink, you will have to wait to be validated, before you are connected to the EchoLink serv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udio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209680"/>
            <a:ext cx="2362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ncludes your Audio details, for the PC Speakers and Micropho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ELaudio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935600" cy="366264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onnection Setup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2362320"/>
            <a:ext cx="2971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creen allows you to configure the various Internet connections you are willing to accep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ELpreferances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4876920" cy="3578400"/>
          </a:xfrm>
          <a:prstGeom prst="rect">
            <a:avLst/>
          </a:prstGeom>
          <a:ln w="0">
            <a:noFill/>
          </a:ln>
        </p:spPr>
      </p:pic>
    </p:spTree>
  </p:cSld>
  <p:transition spd="med"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685800" y="1676520"/>
            <a:ext cx="7162200" cy="2390760"/>
            <a:chOff x="685800" y="1676520"/>
            <a:chExt cx="7162200" cy="239076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85800" y="1676520"/>
              <a:ext cx="3207960" cy="2390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3911400" y="2571840"/>
              <a:ext cx="3936600" cy="824040"/>
              <a:chOff x="3911400" y="2571840"/>
              <a:chExt cx="3936600" cy="824040"/>
            </a:xfrm>
          </p:grpSpPr>
          <p:sp>
            <p:nvSpPr>
              <p:cNvPr id="101" name=""/>
              <p:cNvSpPr/>
              <p:nvPr/>
            </p:nvSpPr>
            <p:spPr>
              <a:xfrm>
                <a:off x="5387760" y="2571840"/>
                <a:ext cx="246024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Out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911400" y="2693160"/>
                <a:ext cx="147636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600200" y="3657600"/>
            <a:ext cx="6838560" cy="2286000"/>
            <a:chOff x="1600200" y="3657600"/>
            <a:chExt cx="6838560" cy="2286000"/>
          </a:xfrm>
        </p:grpSpPr>
        <p:grpSp>
          <p:nvGrpSpPr>
            <p:cNvPr id="104" name=""/>
            <p:cNvGrpSpPr/>
            <p:nvPr/>
          </p:nvGrpSpPr>
          <p:grpSpPr>
            <a:xfrm>
              <a:off x="1600200" y="4296600"/>
              <a:ext cx="3756600" cy="824040"/>
              <a:chOff x="1600200" y="4296600"/>
              <a:chExt cx="3756600" cy="824040"/>
            </a:xfrm>
          </p:grpSpPr>
          <p:sp>
            <p:nvSpPr>
              <p:cNvPr id="105" name=""/>
              <p:cNvSpPr/>
              <p:nvPr/>
            </p:nvSpPr>
            <p:spPr>
              <a:xfrm>
                <a:off x="1600200" y="4296600"/>
                <a:ext cx="230688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Arial"/>
                  </a:rPr>
                  <a:t>This is the Input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972960" y="4487040"/>
                <a:ext cx="1383840" cy="0"/>
              </a:xfrm>
              <a:prstGeom prst="line">
                <a:avLst/>
              </a:prstGeom>
              <a:ln w="50760">
                <a:solidFill>
                  <a:srgbClr val="ffffff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5431320" y="3657600"/>
              <a:ext cx="3007440" cy="228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>
            <a:off x="609480" y="144792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Pc Audio Scree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Receiv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1828800"/>
            <a:ext cx="22100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Op Mode is used when interfacing a Transceiver, and requires additional setup paramete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ELsysop_RX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547992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push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Transmit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16765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18288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ELsysop_TX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544356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48520" y="2209680"/>
            <a:ext cx="23619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a number of choices for triggering the PTT interface to the Ri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General Topics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EchoLink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rious Mo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guring EchoLink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uter to Computer via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nsceiver to Computer to the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hysical Radio Interfac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Linking Softwa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it really Amateur Radio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es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7000"/>
                            </p:stCondLst>
                            <p:childTnLst>
                              <p:par>
                                <p:cTn id="1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000"/>
                            </p:stCondLst>
                            <p:childTnLst>
                              <p:par>
                                <p:cTn id="26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9000"/>
                            </p:stCondLst>
                            <p:childTnLst>
                              <p:par>
                                <p:cTn id="40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4000"/>
                            </p:stCondLst>
                            <p:childTnLst>
                              <p:par>
                                <p:cTn id="47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900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ysOp Identification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ELsysop_Ident" descr=""/>
          <p:cNvPicPr/>
          <p:nvPr/>
        </p:nvPicPr>
        <p:blipFill>
          <a:blip r:embed="rId1"/>
          <a:stretch/>
        </p:blipFill>
        <p:spPr>
          <a:xfrm>
            <a:off x="3581280" y="1828800"/>
            <a:ext cx="4876920" cy="3651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609480" y="220968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th CW and Voice ID are available, along with the method and time interval for the ID’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push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990720" y="1752480"/>
            <a:ext cx="2971800" cy="1828440"/>
            <a:chOff x="990720" y="1752480"/>
            <a:chExt cx="2971800" cy="1828440"/>
          </a:xfrm>
        </p:grpSpPr>
        <p:pic>
          <p:nvPicPr>
            <p:cNvPr id="126" name="" descr=""/>
            <p:cNvPicPr/>
            <p:nvPr/>
          </p:nvPicPr>
          <p:blipFill>
            <a:blip r:embed="rId1"/>
            <a:stretch/>
          </p:blipFill>
          <p:spPr>
            <a:xfrm>
              <a:off x="990720" y="2099160"/>
              <a:ext cx="2971800" cy="148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1362960" y="1752480"/>
              <a:ext cx="1963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nsceiver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5325480" y="1752480"/>
            <a:ext cx="3100320" cy="3200400"/>
            <a:chOff x="5325480" y="1752480"/>
            <a:chExt cx="3100320" cy="3200400"/>
          </a:xfrm>
        </p:grpSpPr>
        <p:pic>
          <p:nvPicPr>
            <p:cNvPr id="129" name="" descr=""/>
            <p:cNvPicPr/>
            <p:nvPr/>
          </p:nvPicPr>
          <p:blipFill>
            <a:blip r:embed="rId2"/>
            <a:stretch/>
          </p:blipFill>
          <p:spPr>
            <a:xfrm>
              <a:off x="5425920" y="2243160"/>
              <a:ext cx="2837160" cy="27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5325480" y="1752480"/>
              <a:ext cx="3100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Computer and Softwar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752480" y="3733920"/>
            <a:ext cx="2819520" cy="2133360"/>
            <a:chOff x="1752480" y="3733920"/>
            <a:chExt cx="2819520" cy="2133360"/>
          </a:xfrm>
        </p:grpSpPr>
        <p:pic>
          <p:nvPicPr>
            <p:cNvPr id="132" name="" descr=""/>
            <p:cNvPicPr/>
            <p:nvPr/>
          </p:nvPicPr>
          <p:blipFill>
            <a:blip r:embed="rId3"/>
            <a:stretch/>
          </p:blipFill>
          <p:spPr>
            <a:xfrm>
              <a:off x="1752480" y="4115160"/>
              <a:ext cx="2819520" cy="175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2529000" y="3733920"/>
              <a:ext cx="12715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erfac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What’s Needed for SysOp Mode?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p:transition spd="slow">
    <p:cover dir="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Making Your Own Interface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reo patch cord with 1/8” plugs from receiver audio to PC “Line-In”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ch cord from PC “Mic-Out” to Transmitter Audio input (should be attenuated)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ial PTT circuitry from COM por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interface_rts_ttl" descr=""/>
          <p:cNvPicPr/>
          <p:nvPr/>
        </p:nvPicPr>
        <p:blipFill>
          <a:blip r:embed="rId1"/>
          <a:stretch/>
        </p:blipFill>
        <p:spPr>
          <a:xfrm>
            <a:off x="2438280" y="4648320"/>
            <a:ext cx="403884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ut, a “Good” Interface should:</a:t>
            </a:r>
            <a:endParaRPr b="0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e the computer audio from transceiv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tenuate the speaker/line level outpu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 matching of audio to mic leve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solation of all ground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 easy to hook up, and leave in-lin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Soundcard Interfac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144" name="Rigblasters" descr=""/>
          <p:cNvPicPr/>
          <p:nvPr/>
        </p:nvPicPr>
        <p:blipFill>
          <a:blip r:embed="rId1"/>
          <a:stretch/>
        </p:blipFill>
        <p:spPr>
          <a:xfrm>
            <a:off x="5257800" y="3657600"/>
            <a:ext cx="3200400" cy="1809720"/>
          </a:xfrm>
          <a:prstGeom prst="rect">
            <a:avLst/>
          </a:prstGeom>
          <a:ln w="0">
            <a:noFill/>
          </a:ln>
        </p:spPr>
      </p:pic>
      <p:pic>
        <p:nvPicPr>
          <p:cNvPr id="145" name="echolinkWB2REM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2328840" cy="1509840"/>
          </a:xfrm>
          <a:prstGeom prst="rect">
            <a:avLst/>
          </a:prstGeom>
          <a:ln w="0">
            <a:noFill/>
          </a:ln>
        </p:spPr>
      </p:pic>
      <p:pic>
        <p:nvPicPr>
          <p:cNvPr id="146" name="interface_VA3TO" descr=""/>
          <p:cNvPicPr/>
          <p:nvPr/>
        </p:nvPicPr>
        <p:blipFill>
          <a:blip r:embed="rId3"/>
          <a:stretch/>
        </p:blipFill>
        <p:spPr>
          <a:xfrm>
            <a:off x="609480" y="3657600"/>
            <a:ext cx="3276720" cy="14097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5105520"/>
            <a:ext cx="43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IGblaster is the more common interface, with jumpers to configure any brand of microphone and ri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4"/>
          <a:stretch/>
        </p:blipFill>
        <p:spPr>
          <a:xfrm>
            <a:off x="4038480" y="2057400"/>
            <a:ext cx="28958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6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52880" y="205740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IGblast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om West Mountain radio is probably the most versati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388620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952880" y="411480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 includes a software CD for most popular Soundcard programs including PSK, SSTV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3124080"/>
            <a:ext cx="335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“jumper” configurations to interface to “Any” radio microphone wiring sche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562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st Mountain Radio provides excellent Internet, email and phone suppor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 good Choice for the Interface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3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500"/>
                            </p:stCondLst>
                            <p:childTnLst>
                              <p:par>
                                <p:cTn id="2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6500"/>
                            </p:stCondLst>
                            <p:childTnLst>
                              <p:par>
                                <p:cTn id="26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9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Arial"/>
              </a:rPr>
              <a:t>RIGblaster Feature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to-isolation prevents ground loop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justable PC speaker level output to mic inpu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s directly into the mic jack on your transceiver with an included 8 pin round to RJ45 adapte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includes a Serial cable, along with stereo speaker and microphone input cab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uses the existing jacks on computer and ri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be used with almost any brand and model of radio, using internal microphone jump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tay in-line at all tim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 different models availabl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0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Other VoIP Applica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indows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Link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Specialized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ires I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- Special Yaesu Interfa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QS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No Call Sign Validation (allows SWL connecti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inux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RL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- Linux – Specialized Interface – Strictly Repeater to Repe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3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4" dur="3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3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The two Most Popular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choLin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Individual User Connec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ace can be homebrew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n-going support expense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operating syste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129528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05520" y="1523880"/>
            <a:ext cx="342900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 R L P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s Repeaters – not individual us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res proprietary interface board at $100.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nimum of $30.00 year donation suggest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ux operating syste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Pros and C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Hams traveling away to stay in contact with Hams back home through a Repeater link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lows Technician licensees a chance to experience DX Contacts.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SL’s are not valid for things like DXCC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“middle” connection is the Internet, and this is a “wired” connection – not wireless RF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0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9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9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9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9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is EchoLink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choLink uses VoIP (Voice Over Internet Protocol) to allow licensed Amateur Radio Operators to communicate with other Amateurs via the Internet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primarily a Windows based application and is offered free of charge at 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http://www.echolink.org.</a:t>
            </a:r>
            <a:br>
              <a:rPr sz="2000"/>
            </a:b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also a new EchoLinux and EchoMac available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was developed by Jonathan Taylor (K1RFD) in 2002 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He received Hamvention 2003 Special Achievement Awar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But Again – </a:t>
            </a:r>
            <a:r>
              <a:rPr b="0" i="1" lang="en-US" sz="4400" spc="-1" strike="noStrike">
                <a:solidFill>
                  <a:srgbClr val="ffff00"/>
                </a:solidFill>
                <a:latin typeface="Tahoma"/>
              </a:rPr>
              <a:t>“Is it Ham Radio?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s long as there is a Simplex or Repeater Link involved it is a new “mode” – It is that simple!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Worldwide Regulatory agencies like the FCC, ART, IBPT, OFCOM, SRR, etc. have recognized it as another Ham “tool” like SSTV or PSK31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ing these “links” you must still ID and follow all regulations, including International rules and Third party agreements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f we don’t keep using our Radios in as many modes as we can, we are going to lose some of the band allocations we have worked so hard for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Some Commen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allows us to expand upon our different Ham activities, and gives Amateur Radio a new dimension with a new technology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 your Transceiver up to it and use 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ther new technologies like Cell Phones, RFID, (BPL?), are competing for our bandwidth, so lets utilize it with all the modes available..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B U T  Remember………….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hough Amateur Radio has grown to embrace new technologies and has now become more than just “Radio” , it is really “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not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without “Radio”…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600"/>
                            </p:stCondLst>
                            <p:childTnLst>
                              <p:par>
                                <p:cTn id="4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9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Credit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me of the Graphics of the various Modes are from the “Ops Tips” page of West Mountain Radio’s Web site, and used with their permissio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westmountainradio.c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Questions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2057400"/>
            <a:ext cx="312408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1000"/>
                            </p:stCondLst>
                            <p:childTnLst>
                              <p:par>
                                <p:cTn id="47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3000"/>
                            </p:stCondLst>
                            <p:childTnLst>
                              <p:par>
                                <p:cTn id="48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0"/>
                            </p:stCondLst>
                            <p:childTnLst>
                              <p:par>
                                <p:cTn id="49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What Modes are Available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operated strictly between two computers connected to the Internet using the PC soundcard with Speakers and a Microphon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standard FM transceiver as a “simplex link” from your home QTH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choLink can be interfaced to a VHF or UHF repeater for more coverage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r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9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choLink “User Mode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57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Is this really Ham Radio?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0" name="EchoLink_Mike_Joe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It Depends upon how you “use” it!!</a:t>
            </a:r>
            <a:endParaRPr b="0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User PC to PC involves no RF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just another Internet “Chat Room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implex-Link or Repeater connection now makes it a “new” Amateur Radio Mod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9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Adding a “Simplex-Link” 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6" name="EchoLink_Mike_Joe_Sam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ahoma"/>
              </a:rPr>
              <a:t>Expanding the “Link”</a:t>
            </a:r>
            <a:endParaRPr b="0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69" name="EchoLink_Mike_Joe_Sam_BackYard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5621400" cy="41148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5800" y="1600200"/>
            <a:ext cx="7620120" cy="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15:21:03Z</dcterms:created>
  <dc:creator>Bob Wiseman</dc:creator>
  <dc:description/>
  <dc:language>en-US</dc:language>
  <cp:lastModifiedBy>Bob Wiseman</cp:lastModifiedBy>
  <dcterms:modified xsi:type="dcterms:W3CDTF">2005-02-04T14:23:19Z</dcterms:modified>
  <cp:revision>174</cp:revision>
  <dc:subject/>
  <dc:title>APRS</dc:title>
</cp:coreProperties>
</file>